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16A-EFDC-4AF8-A095-2A10C6E1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A38-ABCC-4009-9D09-7C204D88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D73-8D3A-4F70-9AA7-9988BFC6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486-8487-46CC-8FAD-181441A5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B31-D23E-4165-BBB3-365928D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367-FBB4-4CA0-9180-0C8E0DF4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215-A0C6-4A61-B534-A3337402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ABC-EE3E-47E2-A8F3-C3C974AC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2DD-CDBD-4D70-86EB-571C4149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243-8B84-4ACD-9D0E-02F1DEC7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3DB-795D-4F00-9EA1-76C7A51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B00-0FA9-4EC6-A5DF-C4D2FF1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ACA-B803-456C-A1C3-E8D072A0D4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8"/>
          <p:cNvGrpSpPr/>
          <p:nvPr/>
        </p:nvGrpSpPr>
        <p:grpSpPr>
          <a:xfrm>
            <a:off x="81000" y="90360"/>
            <a:ext cx="5940360" cy="10825200"/>
            <a:chOff x="81000" y="90360"/>
            <a:chExt cx="5940360" cy="10825200"/>
          </a:xfrm>
        </p:grpSpPr>
        <p:grpSp>
          <p:nvGrpSpPr>
            <p:cNvPr id="16" name="グループ化 29"/>
            <p:cNvGrpSpPr/>
            <p:nvPr/>
          </p:nvGrpSpPr>
          <p:grpSpPr>
            <a:xfrm>
              <a:off x="81000" y="689760"/>
              <a:ext cx="5940360" cy="10225800"/>
              <a:chOff x="81000" y="689760"/>
              <a:chExt cx="5940360" cy="10225800"/>
            </a:xfrm>
          </p:grpSpPr>
          <p:pic>
            <p:nvPicPr>
              <p:cNvPr id="17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7400" y="689760"/>
                <a:ext cx="3266640" cy="88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6840" y="7296120"/>
                <a:ext cx="110016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6840" y="5811840"/>
                <a:ext cx="110016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39640" cy="8099640"/>
                <a:chOff x="1429920" y="1407600"/>
                <a:chExt cx="3239640" cy="809964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39640" cy="809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120" y="2499840"/>
                  <a:ext cx="2519280" cy="617868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Text Box 174"/>
              <p:cNvSpPr/>
              <p:nvPr/>
            </p:nvSpPr>
            <p:spPr>
              <a:xfrm>
                <a:off x="81000" y="10052280"/>
                <a:ext cx="5940360" cy="863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封筒の周囲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とベロ（フタ）部分には印刷することが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製袋された封筒に印刷するため、貼り合わせ部分の段差（下図の灰色の破線）にかかるベタなどのデザインは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データは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色で作成してください。色の掛け合わせは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用紙サイズの変更やトンボの移動、変形などなさらないようお願いし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透過性や半透明、パターンなど変換が正常に出来ない場合があり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を作成する際は、説明部分を削除してください。また、テンプレートと同じサイズになっている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" name="Picture 1" descr=""/>
            <p:cNvPicPr/>
            <p:nvPr/>
          </p:nvPicPr>
          <p:blipFill>
            <a:blip r:embed="rId3"/>
            <a:stretch/>
          </p:blipFill>
          <p:spPr>
            <a:xfrm>
              <a:off x="1512360" y="90360"/>
              <a:ext cx="309636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6:34:29Z</dcterms:modified>
  <cp:revision>3</cp:revision>
  <dc:subject/>
  <dc:title>スライド 1</dc:title>
</cp:coreProperties>
</file>