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980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CA9-1AE0-4610-B036-79A9CE2D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2D1-F5D0-45BA-A82F-C09908BC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B38-75C0-4299-BE03-3AF556E2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6828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3092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600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6828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03092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CE1-A765-46B4-B039-FFF4A312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E0C-7ABB-49B8-AE26-29F92207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3EE-D46B-4022-90BE-7A32C1C1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05B-FDCC-45BA-ABA1-12BBB978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79F-9B94-480F-8BAC-16EE1E0B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6000" y="437760"/>
            <a:ext cx="5507640" cy="84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72D-7164-4E0C-9784-964603B1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A99-4AAD-4B0E-956A-FE19C469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AB9-11C0-4AA9-A292-E48E6BC4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AD8-E0FA-47E6-9898-D467A39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5"/>
          <p:cNvGrpSpPr/>
          <p:nvPr/>
        </p:nvGrpSpPr>
        <p:grpSpPr>
          <a:xfrm>
            <a:off x="1079640" y="1077480"/>
            <a:ext cx="3962160" cy="8823240"/>
            <a:chOff x="1079640" y="1077480"/>
            <a:chExt cx="3962160" cy="8823240"/>
          </a:xfrm>
        </p:grpSpPr>
        <p:sp>
          <p:nvSpPr>
            <p:cNvPr id="1" name="Line 106"/>
            <p:cNvSpPr/>
            <p:nvPr/>
          </p:nvSpPr>
          <p:spPr>
            <a:xfrm flipV="1">
              <a:off x="1331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7"/>
            <p:cNvSpPr/>
            <p:nvPr/>
          </p:nvSpPr>
          <p:spPr>
            <a:xfrm flipV="1">
              <a:off x="1439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8"/>
            <p:cNvSpPr/>
            <p:nvPr/>
          </p:nvSpPr>
          <p:spPr>
            <a:xfrm flipV="1">
              <a:off x="30614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9"/>
            <p:cNvSpPr/>
            <p:nvPr/>
          </p:nvSpPr>
          <p:spPr>
            <a:xfrm flipV="1">
              <a:off x="4678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0"/>
            <p:cNvSpPr/>
            <p:nvPr/>
          </p:nvSpPr>
          <p:spPr>
            <a:xfrm flipV="1">
              <a:off x="4786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1"/>
            <p:cNvSpPr/>
            <p:nvPr/>
          </p:nvSpPr>
          <p:spPr>
            <a:xfrm>
              <a:off x="1079640" y="963072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2"/>
            <p:cNvSpPr/>
            <p:nvPr/>
          </p:nvSpPr>
          <p:spPr>
            <a:xfrm>
              <a:off x="1079640" y="952416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13"/>
            <p:cNvSpPr/>
            <p:nvPr/>
          </p:nvSpPr>
          <p:spPr>
            <a:xfrm>
              <a:off x="1081080" y="547488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4"/>
            <p:cNvSpPr/>
            <p:nvPr/>
          </p:nvSpPr>
          <p:spPr>
            <a:xfrm>
              <a:off x="1081080" y="1423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15"/>
            <p:cNvSpPr/>
            <p:nvPr/>
          </p:nvSpPr>
          <p:spPr>
            <a:xfrm>
              <a:off x="1081080" y="1315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16"/>
            <p:cNvSpPr/>
            <p:nvPr/>
          </p:nvSpPr>
          <p:spPr>
            <a:xfrm rot="16200000">
              <a:off x="-1100160" y="3745440"/>
              <a:ext cx="8317080" cy="3453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30600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2090880" y="10177200"/>
            <a:ext cx="19396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438588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EB10-CAF7-4819-A887-AABF41E4D6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37"/>
          <p:cNvGrpSpPr/>
          <p:nvPr/>
        </p:nvGrpSpPr>
        <p:grpSpPr>
          <a:xfrm>
            <a:off x="81000" y="179280"/>
            <a:ext cx="5940360" cy="10736280"/>
            <a:chOff x="81000" y="179280"/>
            <a:chExt cx="5940360" cy="10736280"/>
          </a:xfrm>
        </p:grpSpPr>
        <p:grpSp>
          <p:nvGrpSpPr>
            <p:cNvPr id="16" name="グループ化 35"/>
            <p:cNvGrpSpPr/>
            <p:nvPr/>
          </p:nvGrpSpPr>
          <p:grpSpPr>
            <a:xfrm>
              <a:off x="97200" y="179280"/>
              <a:ext cx="4591080" cy="9328320"/>
              <a:chOff x="97200" y="179280"/>
              <a:chExt cx="4591080" cy="9328320"/>
            </a:xfrm>
          </p:grpSpPr>
          <p:pic>
            <p:nvPicPr>
              <p:cNvPr id="17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8280" y="666360"/>
                <a:ext cx="3240000" cy="88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" name="AutoShape 172"/>
              <p:cNvSpPr/>
              <p:nvPr/>
            </p:nvSpPr>
            <p:spPr>
              <a:xfrm>
                <a:off x="97200" y="7296840"/>
                <a:ext cx="1099800" cy="799920"/>
              </a:xfrm>
              <a:prstGeom prst="wedgeRoundRectCallout">
                <a:avLst>
                  <a:gd name="adj1" fmla="val 106097"/>
                  <a:gd name="adj2" fmla="val -7303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AutoShape 173"/>
              <p:cNvSpPr/>
              <p:nvPr/>
            </p:nvSpPr>
            <p:spPr>
              <a:xfrm>
                <a:off x="97200" y="5811120"/>
                <a:ext cx="1099800" cy="571320"/>
              </a:xfrm>
              <a:prstGeom prst="wedgeRoundRectCallout">
                <a:avLst>
                  <a:gd name="adj1" fmla="val 73509"/>
                  <a:gd name="adj2" fmla="val -46333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グループ化 34"/>
              <p:cNvGrpSpPr/>
              <p:nvPr/>
            </p:nvGrpSpPr>
            <p:grpSpPr>
              <a:xfrm>
                <a:off x="1429920" y="1407600"/>
                <a:ext cx="3240000" cy="8100000"/>
                <a:chOff x="1429920" y="1407600"/>
                <a:chExt cx="3240000" cy="8100000"/>
              </a:xfrm>
            </p:grpSpPr>
            <p:sp>
              <p:nvSpPr>
                <p:cNvPr id="21" name="Rectangle 146"/>
                <p:cNvSpPr/>
                <p:nvPr/>
              </p:nvSpPr>
              <p:spPr>
                <a:xfrm rot="10800000">
                  <a:off x="1429920" y="1407600"/>
                  <a:ext cx="3240000" cy="810000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146"/>
                <p:cNvSpPr/>
                <p:nvPr/>
              </p:nvSpPr>
              <p:spPr>
                <a:xfrm rot="10800000">
                  <a:off x="1779480" y="1767600"/>
                  <a:ext cx="2519280" cy="737964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487160" y="179280"/>
                <a:ext cx="3147480" cy="57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" name="Text Box 174"/>
            <p:cNvSpPr/>
            <p:nvPr/>
          </p:nvSpPr>
          <p:spPr>
            <a:xfrm>
              <a:off x="81000" y="10052280"/>
              <a:ext cx="594036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06:15:36Z</dcterms:created>
  <dc:creator>2007044</dc:creator>
  <dc:description/>
  <dc:language>en-US</dc:language>
  <cp:lastModifiedBy>2007044</cp:lastModifiedBy>
  <dcterms:modified xsi:type="dcterms:W3CDTF">2017-01-25T07:30:24Z</dcterms:modified>
  <cp:revision>2</cp:revision>
  <dc:subject/>
  <dc:title>スライド 1</dc:title>
</cp:coreProperties>
</file>