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80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414440" y="1433520"/>
            <a:ext cx="847728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2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grpSp>
          <p:nvGrpSpPr>
            <p:cNvPr id="5" name="グループ化 1"/>
            <p:cNvGrpSpPr/>
            <p:nvPr/>
          </p:nvGrpSpPr>
          <p:grpSpPr>
            <a:xfrm>
              <a:off x="2285640" y="1871640"/>
              <a:ext cx="3235320" cy="1617480"/>
              <a:chOff x="2285640" y="1871640"/>
              <a:chExt cx="3235320" cy="1617480"/>
            </a:xfrm>
          </p:grpSpPr>
          <p:sp>
            <p:nvSpPr>
              <p:cNvPr id="6" name="Freeform 159"/>
              <p:cNvSpPr/>
              <p:nvPr/>
            </p:nvSpPr>
            <p:spPr>
              <a:xfrm>
                <a:off x="2285640" y="1871640"/>
                <a:ext cx="3235320" cy="16174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487"/>
                    </a:moveTo>
                    <a:cubicBezTo>
                      <a:pt x="1021" y="500"/>
                      <a:pt x="1011" y="510"/>
                      <a:pt x="998" y="510"/>
                    </a:cubicBezTo>
                    <a:cubicBezTo>
                      <a:pt x="23" y="510"/>
                      <a:pt x="23" y="510"/>
                      <a:pt x="23" y="510"/>
                    </a:cubicBezTo>
                    <a:cubicBezTo>
                      <a:pt x="10" y="510"/>
                      <a:pt x="0" y="500"/>
                      <a:pt x="0" y="487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10" y="0"/>
                      <a:pt x="23" y="0"/>
                    </a:cubicBezTo>
                    <a:cubicBezTo>
                      <a:pt x="998" y="0"/>
                      <a:pt x="998" y="0"/>
                      <a:pt x="998" y="0"/>
                    </a:cubicBezTo>
                    <a:cubicBezTo>
                      <a:pt x="1011" y="0"/>
                      <a:pt x="1021" y="10"/>
                      <a:pt x="1021" y="22"/>
                    </a:cubicBezTo>
                    <a:lnTo>
                      <a:pt x="1021" y="487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164"/>
              <p:cNvSpPr/>
              <p:nvPr/>
            </p:nvSpPr>
            <p:spPr>
              <a:xfrm>
                <a:off x="3598560" y="259056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0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7" y="31"/>
                      <a:pt x="8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4" y="33"/>
                      <a:pt x="24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19" y="24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3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9"/>
                      <a:pt x="18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2" y="20"/>
                      <a:pt x="2" y="20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9" y="23"/>
                      <a:pt x="13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3" y="34"/>
                      <a:pt x="34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65"/>
              <p:cNvSpPr/>
              <p:nvPr/>
            </p:nvSpPr>
            <p:spPr>
              <a:xfrm>
                <a:off x="3723840" y="259056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8"/>
                      <a:pt x="23" y="38"/>
                      <a:pt x="23" y="38"/>
                    </a:cubicBezTo>
                    <a:cubicBezTo>
                      <a:pt x="27" y="38"/>
                      <a:pt x="27" y="38"/>
                      <a:pt x="27" y="38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8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8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6"/>
              <p:cNvSpPr/>
              <p:nvPr/>
            </p:nvSpPr>
            <p:spPr>
              <a:xfrm>
                <a:off x="3847680" y="2590560"/>
                <a:ext cx="12672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10"/>
                      <a:pt x="8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8"/>
                    </a:cubicBezTo>
                    <a:cubicBezTo>
                      <a:pt x="33" y="25"/>
                      <a:pt x="32" y="33"/>
                      <a:pt x="30" y="36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6" y="34"/>
                      <a:pt x="27" y="33"/>
                      <a:pt x="27" y="32"/>
                    </a:cubicBezTo>
                    <a:cubicBezTo>
                      <a:pt x="28" y="30"/>
                      <a:pt x="28" y="26"/>
                      <a:pt x="28" y="19"/>
                    </a:cubicBezTo>
                    <a:cubicBezTo>
                      <a:pt x="19" y="19"/>
                      <a:pt x="19" y="19"/>
                      <a:pt x="19" y="19"/>
                    </a:cubicBezTo>
                    <a:cubicBezTo>
                      <a:pt x="18" y="29"/>
                      <a:pt x="12" y="35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1"/>
                      <a:pt x="14" y="27"/>
                      <a:pt x="15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6"/>
                      <a:pt x="27" y="9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5" y="11"/>
                      <a:pt x="40" y="15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AutoShape 181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82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6" descr=""/>
          <p:cNvPicPr/>
          <p:nvPr/>
        </p:nvPicPr>
        <p:blipFill>
          <a:blip r:embed="rId4"/>
          <a:stretch/>
        </p:blipFill>
        <p:spPr>
          <a:xfrm>
            <a:off x="3560760" y="293760"/>
            <a:ext cx="42163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40:08Z</dcterms:modified>
  <cp:revision>27</cp:revision>
  <dc:subject/>
  <dc:title>PowerPoint プレゼンテーション</dc:title>
</cp:coreProperties>
</file>