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987713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170000" y="685440"/>
            <a:ext cx="451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2687-FF1B-4237-8783-82DF64A67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EE83-60A7-4E05-9B7A-D7DC10B40F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70000" y="685800"/>
            <a:ext cx="4518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6424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52892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79920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566424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1052892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799200" y="483840"/>
            <a:ext cx="1438848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443204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9"/>
          <p:cNvSpPr/>
          <p:nvPr/>
        </p:nvSpPr>
        <p:spPr>
          <a:xfrm>
            <a:off x="8086680" y="10855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60"/>
          <p:cNvSpPr/>
          <p:nvPr/>
        </p:nvSpPr>
        <p:spPr>
          <a:xfrm>
            <a:off x="8101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5970600" y="233280"/>
            <a:ext cx="403524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868480" y="1114740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44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10294920" y="1143000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4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4240" y="982800"/>
            <a:ext cx="14017680" cy="10167840"/>
            <a:chOff x="984240" y="982800"/>
            <a:chExt cx="14017680" cy="1016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7280" y="10691640"/>
              <a:ext cx="435960" cy="436320"/>
              <a:chOff x="1007280" y="10691640"/>
              <a:chExt cx="43596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7280" y="106916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7280" y="1080036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7280" y="1005840"/>
              <a:ext cx="435960" cy="436320"/>
              <a:chOff x="1007280" y="1005840"/>
              <a:chExt cx="43596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728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728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4542920" y="1005840"/>
              <a:ext cx="435960" cy="436320"/>
              <a:chOff x="14542920" y="1005840"/>
              <a:chExt cx="43596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46516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454292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4542920" y="10691640"/>
              <a:ext cx="435960" cy="436320"/>
              <a:chOff x="14542920" y="10691640"/>
              <a:chExt cx="43596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4651640" y="106916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4542920" y="1080036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4240" y="5609520"/>
              <a:ext cx="304560" cy="914400"/>
              <a:chOff x="984240" y="560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424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284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4697360" y="5609520"/>
              <a:ext cx="304560" cy="914400"/>
              <a:chOff x="14697360" y="560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469736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477332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7535880" y="982800"/>
              <a:ext cx="914040" cy="304560"/>
              <a:chOff x="7535880" y="982800"/>
              <a:chExt cx="91404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7535880" y="121140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7992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7535880" y="10846080"/>
              <a:ext cx="914040" cy="304560"/>
              <a:chOff x="7535880" y="10846080"/>
              <a:chExt cx="91404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7535880" y="1092204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7992720" y="1084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2:51Z</dcterms:created>
  <dc:creator/>
  <dc:description/>
  <dc:language>en-US</dc:language>
  <cp:lastModifiedBy/>
  <dcterms:modified xsi:type="dcterms:W3CDTF">2024-08-15T18:26:23Z</dcterms:modified>
  <cp:revision>1</cp:revision>
  <dc:subject/>
  <dc:title/>
</cp:coreProperties>
</file>