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1598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27240" y="685440"/>
            <a:ext cx="2603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9D1E-72F8-4AF9-8A40-D627CAE3F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ED2F-06BC-4769-BFE2-4161E48AF0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27240" y="685800"/>
            <a:ext cx="260352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80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9840" y="374076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0660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2980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989840" y="8583840"/>
            <a:ext cx="35154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1091844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06600" y="637560"/>
            <a:ext cx="10918440" cy="12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92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01360" y="858384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637560"/>
            <a:ext cx="10918440" cy="266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3740760"/>
            <a:ext cx="5328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8583840"/>
            <a:ext cx="109184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1606680"/>
                <a:tab algn="l" pos="3213000"/>
                <a:tab algn="l" pos="4819680"/>
                <a:tab algn="l" pos="6426360"/>
                <a:tab algn="l" pos="8032680"/>
                <a:tab algn="l" pos="963936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058076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6114960" y="14689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1293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3997440" y="216000"/>
            <a:ext cx="41400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155680" y="1499076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44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639200" y="15290640"/>
            <a:ext cx="14904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4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4240"/>
            <a:ext cx="10167840" cy="14017680"/>
            <a:chOff x="982800" y="984240"/>
            <a:chExt cx="10167840" cy="140176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4542920"/>
              <a:ext cx="436320" cy="435960"/>
              <a:chOff x="1005840" y="14542920"/>
              <a:chExt cx="43632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454292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46516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7280"/>
              <a:ext cx="436320" cy="435960"/>
              <a:chOff x="1005840" y="1007280"/>
              <a:chExt cx="43632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0691640" y="1007280"/>
              <a:ext cx="436320" cy="435960"/>
              <a:chOff x="10691640" y="1007280"/>
              <a:chExt cx="43632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080036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06916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0691640" y="14542920"/>
              <a:ext cx="436320" cy="435960"/>
              <a:chOff x="10691640" y="14542920"/>
              <a:chExt cx="43632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0800360" y="1454292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0691640" y="146516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7535880"/>
              <a:ext cx="304560" cy="914040"/>
              <a:chOff x="982800" y="7535880"/>
              <a:chExt cx="304560" cy="91404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799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7535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0846080" y="7535880"/>
              <a:ext cx="304560" cy="914040"/>
              <a:chOff x="10846080" y="7535880"/>
              <a:chExt cx="304560" cy="91404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0846080" y="7992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0922040" y="7535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5609520" y="984240"/>
              <a:ext cx="914400" cy="304560"/>
              <a:chOff x="5609520" y="98424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560952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06672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5609520" y="14697360"/>
              <a:ext cx="914400" cy="304560"/>
              <a:chOff x="5609520" y="1469736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5609520" y="14773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066720" y="14697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3:16Z</dcterms:created>
  <dc:creator/>
  <dc:description/>
  <dc:language>en-US</dc:language>
  <cp:lastModifiedBy/>
  <dcterms:modified xsi:type="dcterms:W3CDTF">2024-08-15T18:32:58Z</dcterms:modified>
  <cp:revision>1</cp:revision>
  <dc:subject/>
  <dc:title/>
</cp:coreProperties>
</file>