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5987713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70000" y="685440"/>
            <a:ext cx="451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BC44-CA01-4312-A8BF-299FADF68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F7DF-E742-4E6B-8ADD-EF28C6D1E9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70000" y="685800"/>
            <a:ext cx="4518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6424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28920" y="283860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79920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566424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0528920" y="6513840"/>
            <a:ext cx="46328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1438848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799200" y="483840"/>
            <a:ext cx="1438848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172000" y="651384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9200" y="483840"/>
            <a:ext cx="1438848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92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172000" y="2838600"/>
            <a:ext cx="7021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99200" y="6513840"/>
            <a:ext cx="1438848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4433480" y="39384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9"/>
          <p:cNvSpPr/>
          <p:nvPr/>
        </p:nvSpPr>
        <p:spPr>
          <a:xfrm>
            <a:off x="8086680" y="10855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60"/>
          <p:cNvSpPr/>
          <p:nvPr/>
        </p:nvSpPr>
        <p:spPr>
          <a:xfrm>
            <a:off x="8101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5964120" y="233280"/>
            <a:ext cx="40579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868480" y="111474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4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294920" y="114300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4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4017680" cy="10167840"/>
            <a:chOff x="984240" y="982800"/>
            <a:chExt cx="140176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0691640"/>
              <a:ext cx="435960" cy="436320"/>
              <a:chOff x="1007280" y="10691640"/>
              <a:chExt cx="43596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4542920" y="1005840"/>
              <a:ext cx="435960" cy="436320"/>
              <a:chOff x="14542920" y="1005840"/>
              <a:chExt cx="43596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465164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454292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4542920" y="10691640"/>
              <a:ext cx="435960" cy="436320"/>
              <a:chOff x="14542920" y="10691640"/>
              <a:chExt cx="43596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4651640" y="106916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4542920" y="1080036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5609520"/>
              <a:ext cx="304560" cy="914400"/>
              <a:chOff x="98424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4697360" y="5609520"/>
              <a:ext cx="304560" cy="914400"/>
              <a:chOff x="1469736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469736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477332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7535880" y="982800"/>
              <a:ext cx="914040" cy="304560"/>
              <a:chOff x="7535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7535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7992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7535880" y="10846080"/>
              <a:ext cx="914040" cy="304560"/>
              <a:chOff x="7535880" y="1084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7535880" y="1092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799272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2:28Z</dcterms:created>
  <dc:creator/>
  <dc:description/>
  <dc:language>en-US</dc:language>
  <cp:lastModifiedBy/>
  <dcterms:modified xsi:type="dcterms:W3CDTF">2024-08-15T18:20:34Z</dcterms:modified>
  <cp:revision>1</cp:revision>
  <dc:subject/>
  <dc:title/>
</cp:coreProperties>
</file>