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5E4-1885-4711-A3F8-65D3ECC75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3B0F-1DCE-4281-AEF1-B989C8F90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788040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662200" y="233280"/>
            <a:ext cx="41022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111380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880400" y="114444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5:10Z</dcterms:created>
  <dc:creator/>
  <dc:description/>
  <dc:language>en-US</dc:language>
  <cp:lastModifiedBy/>
  <dcterms:modified xsi:type="dcterms:W3CDTF">2024-08-15T20:08:50Z</dcterms:modified>
  <cp:revision>1</cp:revision>
  <dc:subject/>
  <dc:title/>
</cp:coreProperties>
</file>