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431338" cy="12131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2095560" y="685440"/>
            <a:ext cx="2666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363A-5F23-4AE6-BAA4-97670D981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2754-D3F5-425C-8E44-7078189060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095560" y="685800"/>
            <a:ext cx="266688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600" y="651384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82112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4188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1180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7160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34188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21180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71600" y="483840"/>
            <a:ext cx="848844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82112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7885080" y="39384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4753080" y="10852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47671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2668680" y="162000"/>
            <a:ext cx="408924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63360" y="1114272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62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3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7880400" y="1144440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62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3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2800"/>
            <a:ext cx="7467480" cy="10167840"/>
            <a:chOff x="982800" y="982800"/>
            <a:chExt cx="7467480" cy="1016784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10691640"/>
              <a:ext cx="436320" cy="436320"/>
              <a:chOff x="1005840" y="10691640"/>
              <a:chExt cx="436320" cy="43632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10691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10800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6320" cy="436320"/>
              <a:chOff x="1005840" y="1005840"/>
              <a:chExt cx="436320" cy="43632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7991280" y="1005840"/>
              <a:ext cx="436320" cy="436320"/>
              <a:chOff x="7991280" y="1005840"/>
              <a:chExt cx="436320" cy="43632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810000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799128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7991280" y="10691640"/>
              <a:ext cx="436320" cy="436320"/>
              <a:chOff x="7991280" y="10691640"/>
              <a:chExt cx="436320" cy="43632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8100000" y="10691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7991280" y="10800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5609520"/>
              <a:ext cx="304560" cy="914400"/>
              <a:chOff x="982800" y="560952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606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560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8145720" y="5609520"/>
              <a:ext cx="304560" cy="914400"/>
              <a:chOff x="8145720" y="560952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8145720" y="606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8221680" y="560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4259160" y="982800"/>
              <a:ext cx="914400" cy="304560"/>
              <a:chOff x="4259160" y="98280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4259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4716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4259160" y="10846080"/>
              <a:ext cx="914400" cy="304560"/>
              <a:chOff x="4259160" y="1084608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4259160" y="1092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4716360" y="1084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5:40Z</dcterms:created>
  <dc:creator/>
  <dc:description/>
  <dc:language>en-US</dc:language>
  <cp:lastModifiedBy/>
  <dcterms:modified xsi:type="dcterms:W3CDTF">2024-08-15T20:13:32Z</dcterms:modified>
  <cp:revision>1</cp:revision>
  <dc:subject/>
  <dc:title/>
</cp:coreProperties>
</file>