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431338" cy="7491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70080" y="685440"/>
            <a:ext cx="4317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738A-0F2F-47CA-883C-E75CFCEE3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E735-6B31-4982-B137-C61DC0DD0A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70080" y="685800"/>
            <a:ext cx="431784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600" y="402228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2112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4188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1180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160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4188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1180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71600" y="1752840"/>
            <a:ext cx="84884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84884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71600" y="298800"/>
            <a:ext cx="848844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2112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トンボ説明ol"/>
          <p:cNvPicPr/>
          <p:nvPr/>
        </p:nvPicPr>
        <p:blipFill>
          <a:blip r:embed="rId2"/>
          <a:stretch/>
        </p:blipFill>
        <p:spPr>
          <a:xfrm>
            <a:off x="7881840" y="395280"/>
            <a:ext cx="104004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4772160" y="61927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478620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3" descr=""/>
          <p:cNvPicPr/>
          <p:nvPr/>
        </p:nvPicPr>
        <p:blipFill>
          <a:blip r:embed="rId3"/>
          <a:stretch/>
        </p:blipFill>
        <p:spPr>
          <a:xfrm>
            <a:off x="2701800" y="216000"/>
            <a:ext cx="402768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63360" y="649296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62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0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5"/>
          <p:cNvSpPr/>
          <p:nvPr/>
        </p:nvSpPr>
        <p:spPr>
          <a:xfrm>
            <a:off x="7867800" y="6796080"/>
            <a:ext cx="149040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62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0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7415280" cy="5472000"/>
            <a:chOff x="1008000" y="1008000"/>
            <a:chExt cx="7415280" cy="547200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6551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991640" y="1008000"/>
              <a:ext cx="10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09928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6767280" cy="48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9928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46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99280" y="1440000"/>
              <a:ext cx="324000" cy="46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6048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099280" y="6048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615636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6156360"/>
              <a:ext cx="10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6156360"/>
              <a:ext cx="6551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91640" y="6156360"/>
              <a:ext cx="107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099280" y="615636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32000" y="1440000"/>
              <a:ext cx="0" cy="460836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332000" y="604836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000" y="615636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99164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991640" y="615636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09928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099280" y="1440000"/>
              <a:ext cx="0" cy="460836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099280" y="604836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008000" y="133200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440000" y="1332000"/>
              <a:ext cx="6551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91640" y="133200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09928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008000" y="6048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099280" y="6048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08000" y="615636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440000" y="6156360"/>
              <a:ext cx="6551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991640" y="615636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object 3"/>
          <p:cNvSpPr/>
          <p:nvPr/>
        </p:nvSpPr>
        <p:spPr>
          <a:xfrm>
            <a:off x="982800" y="374328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ject 4"/>
          <p:cNvSpPr/>
          <p:nvPr/>
        </p:nvSpPr>
        <p:spPr>
          <a:xfrm>
            <a:off x="1211400" y="328608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ject 5"/>
          <p:cNvSpPr/>
          <p:nvPr/>
        </p:nvSpPr>
        <p:spPr>
          <a:xfrm>
            <a:off x="8143920" y="374328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ject 6"/>
          <p:cNvSpPr/>
          <p:nvPr/>
        </p:nvSpPr>
        <p:spPr>
          <a:xfrm>
            <a:off x="8220240" y="328608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ject 7"/>
          <p:cNvSpPr/>
          <p:nvPr/>
        </p:nvSpPr>
        <p:spPr>
          <a:xfrm>
            <a:off x="425916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ject 8"/>
          <p:cNvSpPr/>
          <p:nvPr/>
        </p:nvSpPr>
        <p:spPr>
          <a:xfrm>
            <a:off x="471636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ject 9"/>
          <p:cNvSpPr/>
          <p:nvPr/>
        </p:nvSpPr>
        <p:spPr>
          <a:xfrm>
            <a:off x="4259160" y="627696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ject 10"/>
          <p:cNvSpPr/>
          <p:nvPr/>
        </p:nvSpPr>
        <p:spPr>
          <a:xfrm>
            <a:off x="4716360" y="620064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8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6:15Z</dcterms:created>
  <dc:creator/>
  <dc:description/>
  <dc:language>en-US</dc:language>
  <cp:lastModifiedBy/>
  <dcterms:modified xsi:type="dcterms:W3CDTF">2020-06-12T18:56:29Z</dcterms:modified>
  <cp:revision>1</cp:revision>
  <dc:subject/>
  <dc:title/>
</cp:coreProperties>
</file>