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7491413" cy="61563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343160" y="685440"/>
            <a:ext cx="4171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3AA36-1872-471F-B31D-56FF47226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65627-1D24-4190-A51E-48E3B187AF2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343160" y="685800"/>
            <a:ext cx="417168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6742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74400" y="3305160"/>
            <a:ext cx="6742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29320" y="14403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74400" y="33051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3829320" y="33051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21708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654280" y="1440360"/>
            <a:ext cx="21708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33800" y="1440360"/>
            <a:ext cx="21708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74400" y="3305160"/>
            <a:ext cx="21708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2654280" y="3305160"/>
            <a:ext cx="21708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4933800" y="3305160"/>
            <a:ext cx="21708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74400" y="1440360"/>
            <a:ext cx="67420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67420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32900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829320" y="1440360"/>
            <a:ext cx="32900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74400" y="245520"/>
            <a:ext cx="674208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829320" y="1440360"/>
            <a:ext cx="32900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74400" y="33051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32900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29320" y="14403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29320" y="33051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29320" y="14403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74400" y="3305160"/>
            <a:ext cx="6742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トンボ説明ol"/>
          <p:cNvPicPr/>
          <p:nvPr/>
        </p:nvPicPr>
        <p:blipFill>
          <a:blip r:embed="rId2"/>
          <a:stretch/>
        </p:blipFill>
        <p:spPr>
          <a:xfrm>
            <a:off x="5938920" y="401760"/>
            <a:ext cx="1039680" cy="1150920"/>
          </a:xfrm>
          <a:prstGeom prst="rect">
            <a:avLst/>
          </a:prstGeom>
          <a:ln w="0">
            <a:noFill/>
          </a:ln>
        </p:spPr>
      </p:pic>
      <p:sp>
        <p:nvSpPr>
          <p:cNvPr id="1" name="AutoShape 52"/>
          <p:cNvSpPr/>
          <p:nvPr/>
        </p:nvSpPr>
        <p:spPr>
          <a:xfrm>
            <a:off x="3787920" y="486108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53"/>
          <p:cNvSpPr/>
          <p:nvPr/>
        </p:nvSpPr>
        <p:spPr>
          <a:xfrm>
            <a:off x="380196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4" descr=""/>
          <p:cNvPicPr/>
          <p:nvPr/>
        </p:nvPicPr>
        <p:blipFill>
          <a:blip r:embed="rId3"/>
          <a:stretch/>
        </p:blipFill>
        <p:spPr>
          <a:xfrm>
            <a:off x="1724040" y="270000"/>
            <a:ext cx="4041720" cy="61092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93600" y="5162400"/>
            <a:ext cx="3355920" cy="97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08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71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6"/>
          <p:cNvSpPr/>
          <p:nvPr/>
        </p:nvSpPr>
        <p:spPr>
          <a:xfrm>
            <a:off x="5911920" y="5437080"/>
            <a:ext cx="149076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208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71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object 2"/>
          <p:cNvGrpSpPr/>
          <p:nvPr/>
        </p:nvGrpSpPr>
        <p:grpSpPr>
          <a:xfrm>
            <a:off x="1008000" y="1008000"/>
            <a:ext cx="5470560" cy="4140360"/>
            <a:chOff x="1008000" y="1008000"/>
            <a:chExt cx="5470560" cy="4140360"/>
          </a:xfrm>
        </p:grpSpPr>
        <p:sp>
          <p:nvSpPr>
            <p:cNvPr id="7" name=""/>
            <p:cNvSpPr/>
            <p:nvPr/>
          </p:nvSpPr>
          <p:spPr>
            <a:xfrm>
              <a:off x="100800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32000" y="100800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440000" y="1008000"/>
              <a:ext cx="46069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46920" y="1008000"/>
              <a:ext cx="107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15456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00800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32000" y="1332000"/>
              <a:ext cx="4822560" cy="34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15456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08000" y="1440000"/>
              <a:ext cx="324000" cy="32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154560" y="1440000"/>
              <a:ext cx="324000" cy="32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008000" y="471636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6154560" y="471636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008000" y="482436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32000" y="482436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440000" y="4824360"/>
              <a:ext cx="46069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6046920" y="4824360"/>
              <a:ext cx="107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6154560" y="482436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32000" y="1008000"/>
              <a:ext cx="0" cy="4140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44000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000" y="482436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604692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6046920" y="482436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6154560" y="1008000"/>
              <a:ext cx="0" cy="4140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1008000" y="1332000"/>
              <a:ext cx="54705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00800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15456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008000" y="471636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154560" y="471636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1008000" y="4824360"/>
              <a:ext cx="54705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" name="object 3"/>
          <p:cNvSpPr/>
          <p:nvPr/>
        </p:nvSpPr>
        <p:spPr>
          <a:xfrm>
            <a:off x="3743280" y="982800"/>
            <a:ext cx="360" cy="30456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0"/>
                </a:moveTo>
                <a:lnTo>
                  <a:pt x="0" y="3048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object 4"/>
          <p:cNvSpPr/>
          <p:nvPr/>
        </p:nvSpPr>
        <p:spPr>
          <a:xfrm>
            <a:off x="3286080" y="121140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9144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object 5"/>
          <p:cNvSpPr/>
          <p:nvPr/>
        </p:nvSpPr>
        <p:spPr>
          <a:xfrm>
            <a:off x="3743280" y="4869000"/>
            <a:ext cx="360" cy="30456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30480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object 6"/>
          <p:cNvSpPr/>
          <p:nvPr/>
        </p:nvSpPr>
        <p:spPr>
          <a:xfrm>
            <a:off x="3286080" y="494496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0" y="0"/>
                </a:moveTo>
                <a:lnTo>
                  <a:pt x="9144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object 7"/>
          <p:cNvSpPr/>
          <p:nvPr/>
        </p:nvSpPr>
        <p:spPr>
          <a:xfrm>
            <a:off x="6276960" y="262080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0"/>
                </a:moveTo>
                <a:lnTo>
                  <a:pt x="0" y="9144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object 8"/>
          <p:cNvSpPr/>
          <p:nvPr/>
        </p:nvSpPr>
        <p:spPr>
          <a:xfrm>
            <a:off x="6200640" y="3078000"/>
            <a:ext cx="30492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3048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ject 9"/>
          <p:cNvSpPr/>
          <p:nvPr/>
        </p:nvSpPr>
        <p:spPr>
          <a:xfrm>
            <a:off x="1211400" y="262080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91440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ject 10"/>
          <p:cNvSpPr/>
          <p:nvPr/>
        </p:nvSpPr>
        <p:spPr>
          <a:xfrm>
            <a:off x="982800" y="3078000"/>
            <a:ext cx="30456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0" y="0"/>
                </a:moveTo>
                <a:lnTo>
                  <a:pt x="3048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8:58:22Z</dcterms:created>
  <dc:creator/>
  <dc:description/>
  <dc:language>en-US</dc:language>
  <cp:lastModifiedBy/>
  <dcterms:modified xsi:type="dcterms:W3CDTF">2020-06-12T18:58:31Z</dcterms:modified>
  <cp:revision>1</cp:revision>
  <dc:subject/>
  <dc:title/>
</cp:coreProperties>
</file>