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56325" cy="7491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019240" y="685440"/>
            <a:ext cx="2819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471F-8374-4EB8-8406-E3EBBF9A9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8BAB-F56D-487A-8504-C3B1CC437E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019240" y="685800"/>
            <a:ext cx="281952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18124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5468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0780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18124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05468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7800" y="298800"/>
            <a:ext cx="55400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4600440" y="39672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3121200" y="621648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31352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101520" y="98280"/>
            <a:ext cx="4041720" cy="61308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60480" y="649440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4592520" y="680076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0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4140360" cy="5472000"/>
            <a:chOff x="1008000" y="1008000"/>
            <a:chExt cx="4140360" cy="547200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3276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1636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82436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3492360" cy="48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2436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24360" y="1440000"/>
              <a:ext cx="32400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6048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824360" y="6048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615636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615636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6156360"/>
              <a:ext cx="32763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716360" y="615636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824360" y="615636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54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615636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71636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716360" y="615636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824360" y="1008000"/>
              <a:ext cx="0" cy="54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414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82436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6048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824360" y="6048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6156360"/>
              <a:ext cx="414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982800" y="374328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1211400" y="328608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4869000" y="374328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4944960" y="328608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262080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307800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2620800" y="627696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3078000" y="620064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9:22:00Z</dcterms:created>
  <dc:creator/>
  <dc:description/>
  <dc:language>en-US</dc:language>
  <cp:lastModifiedBy/>
  <dcterms:modified xsi:type="dcterms:W3CDTF">2020-06-12T19:22:08Z</dcterms:modified>
  <cp:revision>1</cp:revision>
  <dc:subject/>
  <dc:title/>
</cp:coreProperties>
</file>