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6156325" cy="74914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2019240" y="685440"/>
            <a:ext cx="28195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0" lang="en-US" sz="200" spc="-1" strike="noStrike">
                <a:solidFill>
                  <a:srgbClr val="1f497d"/>
                </a:solidFill>
                <a:latin typeface="Arial"/>
              </a:rPr>
              <a:t>Click to move the slide</a:t>
            </a: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81674-04BF-4C74-A190-D9278B48C0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71E53-3120-4799-B985-AF8DFEDFFFC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2019240" y="685800"/>
            <a:ext cx="281952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7800" y="298800"/>
            <a:ext cx="5540040" cy="125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7800" y="1752840"/>
            <a:ext cx="554004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07800" y="4022280"/>
            <a:ext cx="554004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7800" y="298800"/>
            <a:ext cx="5540040" cy="125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7800" y="1752840"/>
            <a:ext cx="270324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146760" y="1752840"/>
            <a:ext cx="270324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07800" y="4022280"/>
            <a:ext cx="270324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3146760" y="4022280"/>
            <a:ext cx="270324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7800" y="298800"/>
            <a:ext cx="5540040" cy="125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7800" y="1752840"/>
            <a:ext cx="178380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2181240" y="1752840"/>
            <a:ext cx="178380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54680" y="1752840"/>
            <a:ext cx="178380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07800" y="4022280"/>
            <a:ext cx="178380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2181240" y="4022280"/>
            <a:ext cx="178380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4054680" y="4022280"/>
            <a:ext cx="178380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7800" y="298800"/>
            <a:ext cx="5540040" cy="125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07800" y="1752840"/>
            <a:ext cx="5540040" cy="434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7800" y="298800"/>
            <a:ext cx="5540040" cy="125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07800" y="1752840"/>
            <a:ext cx="5540040" cy="434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7800" y="298800"/>
            <a:ext cx="5540040" cy="125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7800" y="1752840"/>
            <a:ext cx="2703240" cy="434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146760" y="1752840"/>
            <a:ext cx="2703240" cy="434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7800" y="298800"/>
            <a:ext cx="5540040" cy="125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7800" y="298800"/>
            <a:ext cx="5540040" cy="57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7800" y="298800"/>
            <a:ext cx="5540040" cy="125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7800" y="1752840"/>
            <a:ext cx="270324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146760" y="1752840"/>
            <a:ext cx="2703240" cy="434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07800" y="4022280"/>
            <a:ext cx="270324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7800" y="298800"/>
            <a:ext cx="5540040" cy="125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7800" y="1752840"/>
            <a:ext cx="2703240" cy="434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146760" y="1752840"/>
            <a:ext cx="270324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146760" y="4022280"/>
            <a:ext cx="270324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7800" y="298800"/>
            <a:ext cx="5540040" cy="125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7800" y="1752840"/>
            <a:ext cx="270324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146760" y="1752840"/>
            <a:ext cx="270324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07800" y="4022280"/>
            <a:ext cx="554004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4" descr="トンボ説明ol"/>
          <p:cNvPicPr/>
          <p:nvPr/>
        </p:nvPicPr>
        <p:blipFill>
          <a:blip r:embed="rId2"/>
          <a:stretch/>
        </p:blipFill>
        <p:spPr>
          <a:xfrm>
            <a:off x="4600440" y="396720"/>
            <a:ext cx="1040040" cy="1150920"/>
          </a:xfrm>
          <a:prstGeom prst="rect">
            <a:avLst/>
          </a:prstGeom>
          <a:ln w="0">
            <a:noFill/>
          </a:ln>
        </p:spPr>
      </p:pic>
      <p:sp>
        <p:nvSpPr>
          <p:cNvPr id="1" name="AutoShape 52"/>
          <p:cNvSpPr/>
          <p:nvPr/>
        </p:nvSpPr>
        <p:spPr>
          <a:xfrm>
            <a:off x="3121200" y="6216480"/>
            <a:ext cx="247320" cy="247680"/>
          </a:xfrm>
          <a:custGeom>
            <a:avLst/>
            <a:gdLst>
              <a:gd name="textAreaLeft" fmla="*/ 56520 w 247320"/>
              <a:gd name="textAreaRight" fmla="*/ 190800 w 24732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AutoShape 53"/>
          <p:cNvSpPr/>
          <p:nvPr/>
        </p:nvSpPr>
        <p:spPr>
          <a:xfrm>
            <a:off x="3135240" y="100800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24" descr=""/>
          <p:cNvPicPr/>
          <p:nvPr/>
        </p:nvPicPr>
        <p:blipFill>
          <a:blip r:embed="rId3"/>
          <a:stretch/>
        </p:blipFill>
        <p:spPr>
          <a:xfrm>
            <a:off x="92160" y="87480"/>
            <a:ext cx="4057560" cy="612720"/>
          </a:xfrm>
          <a:prstGeom prst="rect">
            <a:avLst/>
          </a:prstGeom>
          <a:ln w="0">
            <a:noFill/>
          </a:ln>
        </p:spPr>
      </p:pic>
      <p:sp>
        <p:nvSpPr>
          <p:cNvPr id="4" name="Text Box 55"/>
          <p:cNvSpPr/>
          <p:nvPr/>
        </p:nvSpPr>
        <p:spPr>
          <a:xfrm>
            <a:off x="60480" y="6508800"/>
            <a:ext cx="3355920" cy="973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ja-JP" sz="900" spc="-1" strike="noStrike">
                <a:solidFill>
                  <a:srgbClr val="ff0000"/>
                </a:solidFill>
                <a:latin typeface="ＭＳ Ｐゴシック"/>
              </a:rPr>
              <a:t>テンプレート使用時の注意点　～必ずお読みください～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①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用紙サイズの変更やトンボの移動、変形などは絶対にしないようお願いします。</a:t>
            </a: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②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フチ無し印刷をご希望の場合は、「</a:t>
            </a:r>
            <a:r>
              <a:rPr b="0" lang="ja-JP" sz="600" spc="-1" strike="noStrike">
                <a:solidFill>
                  <a:srgbClr val="ff0000"/>
                </a:solidFill>
                <a:latin typeface="ＭＳ Ｐゴシック"/>
              </a:rPr>
              <a:t>ヌリ足し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」まで色や写真を配置して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③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透過性や半透明、パターンなどは変換が正常に出来ない場合がございます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④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入稿される際は、必ず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形式で保存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したデータでお願いいたします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⑤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形式で保存される前に必ず添付の「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PowerPoint-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入稿データについて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ｐｄｆ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」をお読み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⑥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の書き出し方法については下記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の弊社ホームページをご参照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http://www.vanfu.co.jp/guide/technical/microsoft-office/#pd002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⑦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を作成後は、必ずこのドキュメントと同じサイズ（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171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ｘ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208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）になっているかご確認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26"/>
          <p:cNvSpPr/>
          <p:nvPr/>
        </p:nvSpPr>
        <p:spPr>
          <a:xfrm>
            <a:off x="4592520" y="6800760"/>
            <a:ext cx="1490760" cy="632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Ｐゴシック"/>
              </a:rPr>
              <a:t>このドキュメントのサイズは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幅</a:t>
            </a:r>
            <a:r>
              <a:rPr b="1" lang="en-US" sz="1000" spc="-1" strike="noStrike">
                <a:solidFill>
                  <a:srgbClr val="ff0000"/>
                </a:solidFill>
                <a:latin typeface="ＭＳ Ｐゴシック"/>
              </a:rPr>
              <a:t>171</a:t>
            </a: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ｍｍ</a:t>
            </a:r>
            <a:r>
              <a:rPr b="1" lang="en-US" sz="1000" spc="-1" strike="noStrike">
                <a:solidFill>
                  <a:srgbClr val="ff0000"/>
                </a:solidFill>
                <a:latin typeface="ＭＳ Ｐゴシック"/>
              </a:rPr>
              <a:t>×</a:t>
            </a: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高</a:t>
            </a:r>
            <a:r>
              <a:rPr b="1" lang="en-US" sz="1000" spc="-1" strike="noStrike">
                <a:solidFill>
                  <a:srgbClr val="ff0000"/>
                </a:solidFill>
                <a:latin typeface="ＭＳ Ｐゴシック"/>
              </a:rPr>
              <a:t>208</a:t>
            </a: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ｍ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Ｐゴシック"/>
              </a:rPr>
              <a:t>になります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object 2"/>
          <p:cNvGrpSpPr/>
          <p:nvPr/>
        </p:nvGrpSpPr>
        <p:grpSpPr>
          <a:xfrm>
            <a:off x="1008000" y="1008000"/>
            <a:ext cx="4140360" cy="5472000"/>
            <a:chOff x="1008000" y="1008000"/>
            <a:chExt cx="4140360" cy="5472000"/>
          </a:xfrm>
        </p:grpSpPr>
        <p:sp>
          <p:nvSpPr>
            <p:cNvPr id="7" name=""/>
            <p:cNvSpPr/>
            <p:nvPr/>
          </p:nvSpPr>
          <p:spPr>
            <a:xfrm>
              <a:off x="1008000" y="1008000"/>
              <a:ext cx="32400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332000" y="1008000"/>
              <a:ext cx="10800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440000" y="1008000"/>
              <a:ext cx="327636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16360" y="1008000"/>
              <a:ext cx="10800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4824360" y="1008000"/>
              <a:ext cx="32400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008000" y="1332000"/>
              <a:ext cx="32400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332000" y="1332000"/>
              <a:ext cx="3492360" cy="482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24360" y="1332000"/>
              <a:ext cx="32400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008000" y="1440000"/>
              <a:ext cx="324000" cy="46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24360" y="1440000"/>
              <a:ext cx="324000" cy="46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008000" y="6048360"/>
              <a:ext cx="32400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824360" y="6048360"/>
              <a:ext cx="32400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008000" y="6156360"/>
              <a:ext cx="32400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332000" y="6156360"/>
              <a:ext cx="10800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1440000" y="6156360"/>
              <a:ext cx="327636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716360" y="6156360"/>
              <a:ext cx="10800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4824360" y="6156360"/>
              <a:ext cx="32400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1332000" y="1008000"/>
              <a:ext cx="0" cy="54720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1440000" y="1008000"/>
              <a:ext cx="0" cy="3240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000" y="6156360"/>
              <a:ext cx="0" cy="3236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4716360" y="1008000"/>
              <a:ext cx="0" cy="3240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716360" y="6156360"/>
              <a:ext cx="0" cy="3236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824360" y="1008000"/>
              <a:ext cx="0" cy="54720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1008000" y="1332000"/>
              <a:ext cx="414036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1008000" y="1440000"/>
              <a:ext cx="3240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824360" y="1440000"/>
              <a:ext cx="3240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008000" y="6048360"/>
              <a:ext cx="3240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4824360" y="6048360"/>
              <a:ext cx="3240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1008000" y="6156360"/>
              <a:ext cx="414036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" name="object 3"/>
          <p:cNvSpPr/>
          <p:nvPr/>
        </p:nvSpPr>
        <p:spPr>
          <a:xfrm>
            <a:off x="982800" y="3743280"/>
            <a:ext cx="304560" cy="360"/>
          </a:xfrm>
          <a:custGeom>
            <a:avLst/>
            <a:gdLst/>
            <a:ahLst/>
            <a:rect l="l" t="t" r="r" b="b"/>
            <a:pathLst>
              <a:path w="304800" h="0">
                <a:moveTo>
                  <a:pt x="0" y="0"/>
                </a:moveTo>
                <a:lnTo>
                  <a:pt x="304800" y="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object 4"/>
          <p:cNvSpPr/>
          <p:nvPr/>
        </p:nvSpPr>
        <p:spPr>
          <a:xfrm>
            <a:off x="1211400" y="3286080"/>
            <a:ext cx="360" cy="914400"/>
          </a:xfrm>
          <a:custGeom>
            <a:avLst/>
            <a:gdLst/>
            <a:ahLst/>
            <a:rect l="l" t="t" r="r" b="b"/>
            <a:pathLst>
              <a:path w="0" h="914400">
                <a:moveTo>
                  <a:pt x="0" y="0"/>
                </a:moveTo>
                <a:lnTo>
                  <a:pt x="0" y="91440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object 5"/>
          <p:cNvSpPr/>
          <p:nvPr/>
        </p:nvSpPr>
        <p:spPr>
          <a:xfrm>
            <a:off x="4869000" y="3743280"/>
            <a:ext cx="304560" cy="360"/>
          </a:xfrm>
          <a:custGeom>
            <a:avLst/>
            <a:gdLst/>
            <a:ahLst/>
            <a:rect l="l" t="t" r="r" b="b"/>
            <a:pathLst>
              <a:path w="304800" h="0">
                <a:moveTo>
                  <a:pt x="304800" y="0"/>
                </a:moveTo>
                <a:lnTo>
                  <a:pt x="0" y="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object 6"/>
          <p:cNvSpPr/>
          <p:nvPr/>
        </p:nvSpPr>
        <p:spPr>
          <a:xfrm>
            <a:off x="4944960" y="3286080"/>
            <a:ext cx="360" cy="914400"/>
          </a:xfrm>
          <a:custGeom>
            <a:avLst/>
            <a:gdLst/>
            <a:ahLst/>
            <a:rect l="l" t="t" r="r" b="b"/>
            <a:pathLst>
              <a:path w="0" h="914400">
                <a:moveTo>
                  <a:pt x="0" y="914400"/>
                </a:moveTo>
                <a:lnTo>
                  <a:pt x="0" y="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object 7"/>
          <p:cNvSpPr/>
          <p:nvPr/>
        </p:nvSpPr>
        <p:spPr>
          <a:xfrm>
            <a:off x="2620800" y="1211400"/>
            <a:ext cx="914400" cy="360"/>
          </a:xfrm>
          <a:custGeom>
            <a:avLst/>
            <a:gdLst/>
            <a:ahLst/>
            <a:rect l="l" t="t" r="r" b="b"/>
            <a:pathLst>
              <a:path w="914400" h="0">
                <a:moveTo>
                  <a:pt x="0" y="0"/>
                </a:moveTo>
                <a:lnTo>
                  <a:pt x="914400" y="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object 8"/>
          <p:cNvSpPr/>
          <p:nvPr/>
        </p:nvSpPr>
        <p:spPr>
          <a:xfrm>
            <a:off x="3078000" y="982800"/>
            <a:ext cx="360" cy="304560"/>
          </a:xfrm>
          <a:custGeom>
            <a:avLst/>
            <a:gdLst/>
            <a:ahLst/>
            <a:rect l="l" t="t" r="r" b="b"/>
            <a:pathLst>
              <a:path w="0" h="304800">
                <a:moveTo>
                  <a:pt x="0" y="0"/>
                </a:moveTo>
                <a:lnTo>
                  <a:pt x="0" y="30480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object 9"/>
          <p:cNvSpPr/>
          <p:nvPr/>
        </p:nvSpPr>
        <p:spPr>
          <a:xfrm>
            <a:off x="2620800" y="6276960"/>
            <a:ext cx="914400" cy="360"/>
          </a:xfrm>
          <a:custGeom>
            <a:avLst/>
            <a:gdLst/>
            <a:ahLst/>
            <a:rect l="l" t="t" r="r" b="b"/>
            <a:pathLst>
              <a:path w="914400" h="0">
                <a:moveTo>
                  <a:pt x="914400" y="0"/>
                </a:moveTo>
                <a:lnTo>
                  <a:pt x="0" y="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object 10"/>
          <p:cNvSpPr/>
          <p:nvPr/>
        </p:nvSpPr>
        <p:spPr>
          <a:xfrm>
            <a:off x="3078000" y="6200640"/>
            <a:ext cx="360" cy="304920"/>
          </a:xfrm>
          <a:custGeom>
            <a:avLst/>
            <a:gdLst/>
            <a:ahLst/>
            <a:rect l="l" t="t" r="r" b="b"/>
            <a:pathLst>
              <a:path w="0" h="304800">
                <a:moveTo>
                  <a:pt x="0" y="304800"/>
                </a:moveTo>
                <a:lnTo>
                  <a:pt x="0" y="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6-12T18:58:45Z</dcterms:created>
  <dc:creator/>
  <dc:description/>
  <dc:language>en-US</dc:language>
  <cp:lastModifiedBy/>
  <dcterms:modified xsi:type="dcterms:W3CDTF">2020-06-12T18:58:53Z</dcterms:modified>
  <cp:revision>1</cp:revision>
  <dc:subject/>
  <dc:title/>
</cp:coreProperties>
</file>