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5184775" cy="61563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984320" y="685440"/>
            <a:ext cx="288936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r>
              <a:rPr b="0" lang="en-US" sz="1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AF1CC-BE57-4849-A054-F2BECD706F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32532-081D-4904-90A3-4F46DEEAF61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984320" y="685800"/>
            <a:ext cx="288936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9200" y="1440360"/>
            <a:ext cx="46652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59200" y="3305160"/>
            <a:ext cx="46652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9200" y="14403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649600" y="14403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59200" y="33051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2649600" y="33051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59200" y="1440360"/>
            <a:ext cx="150192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836720" y="1440360"/>
            <a:ext cx="150192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413880" y="1440360"/>
            <a:ext cx="150192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59200" y="3305160"/>
            <a:ext cx="150192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1836720" y="3305160"/>
            <a:ext cx="150192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3413880" y="3305160"/>
            <a:ext cx="150192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59200" y="1440360"/>
            <a:ext cx="466524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9200" y="1440360"/>
            <a:ext cx="466524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9200" y="1440360"/>
            <a:ext cx="22762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2649600" y="1440360"/>
            <a:ext cx="22762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728960" y="5136840"/>
            <a:ext cx="455400" cy="24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9200" y="14403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2649600" y="1440360"/>
            <a:ext cx="22762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59200" y="33051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9200" y="1440360"/>
            <a:ext cx="22762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2649600" y="14403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649600" y="33051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9200" y="14403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649600" y="14403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59200" y="3305160"/>
            <a:ext cx="46652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トンボ説明ol"/>
          <p:cNvPicPr/>
          <p:nvPr/>
        </p:nvPicPr>
        <p:blipFill>
          <a:blip r:embed="rId2"/>
          <a:stretch/>
        </p:blipFill>
        <p:spPr>
          <a:xfrm>
            <a:off x="3633840" y="395280"/>
            <a:ext cx="1039680" cy="1150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r>
              <a:rPr b="0" lang="en-US" sz="1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" name="AutoShape 53"/>
          <p:cNvSpPr/>
          <p:nvPr/>
        </p:nvSpPr>
        <p:spPr>
          <a:xfrm>
            <a:off x="2627280" y="48783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AutoShape 54"/>
          <p:cNvSpPr/>
          <p:nvPr/>
        </p:nvSpPr>
        <p:spPr>
          <a:xfrm>
            <a:off x="2641680" y="103680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5" descr=""/>
          <p:cNvPicPr/>
          <p:nvPr/>
        </p:nvPicPr>
        <p:blipFill>
          <a:blip r:embed="rId3"/>
          <a:stretch/>
        </p:blipFill>
        <p:spPr>
          <a:xfrm>
            <a:off x="82440" y="88920"/>
            <a:ext cx="3490920" cy="528480"/>
          </a:xfrm>
          <a:prstGeom prst="rect">
            <a:avLst/>
          </a:prstGeom>
          <a:ln w="0">
            <a:noFill/>
          </a:ln>
        </p:spPr>
      </p:pic>
      <p:sp>
        <p:nvSpPr>
          <p:cNvPr id="5" name="Text Box 55"/>
          <p:cNvSpPr/>
          <p:nvPr/>
        </p:nvSpPr>
        <p:spPr>
          <a:xfrm>
            <a:off x="61920" y="5160960"/>
            <a:ext cx="3355920" cy="9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44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71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27"/>
          <p:cNvSpPr/>
          <p:nvPr/>
        </p:nvSpPr>
        <p:spPr>
          <a:xfrm>
            <a:off x="3584520" y="5430960"/>
            <a:ext cx="1490760" cy="632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144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171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bject 2"/>
          <p:cNvGrpSpPr/>
          <p:nvPr/>
        </p:nvGrpSpPr>
        <p:grpSpPr>
          <a:xfrm>
            <a:off x="1008000" y="1008000"/>
            <a:ext cx="3167280" cy="4140360"/>
            <a:chOff x="1008000" y="1008000"/>
            <a:chExt cx="3167280" cy="4140360"/>
          </a:xfrm>
        </p:grpSpPr>
        <p:sp>
          <p:nvSpPr>
            <p:cNvPr id="8" name=""/>
            <p:cNvSpPr/>
            <p:nvPr/>
          </p:nvSpPr>
          <p:spPr>
            <a:xfrm>
              <a:off x="1008000" y="100800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32000" y="100800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440000" y="1008000"/>
              <a:ext cx="230328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743280" y="100800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851280" y="100800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008000" y="133200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332000" y="1332000"/>
              <a:ext cx="2519280" cy="34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851280" y="133200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08000" y="1440000"/>
              <a:ext cx="324000" cy="32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851280" y="1440000"/>
              <a:ext cx="324000" cy="32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008000" y="471636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851280" y="471636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008000" y="482436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332000" y="482436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440000" y="4824360"/>
              <a:ext cx="230328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743280" y="482436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51280" y="482436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332000" y="1008000"/>
              <a:ext cx="0" cy="4140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000" y="100800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000" y="482436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3743280" y="100800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743280" y="482436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851280" y="1008000"/>
              <a:ext cx="0" cy="4140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1008000" y="1332000"/>
              <a:ext cx="3167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008000" y="144000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3851280" y="144000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1008000" y="471636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3851280" y="471636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008000" y="4824360"/>
              <a:ext cx="3167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" name="object 3"/>
          <p:cNvSpPr/>
          <p:nvPr/>
        </p:nvSpPr>
        <p:spPr>
          <a:xfrm>
            <a:off x="982800" y="3078000"/>
            <a:ext cx="304560" cy="360"/>
          </a:xfrm>
          <a:custGeom>
            <a:avLst/>
            <a:gdLst/>
            <a:ahLst/>
            <a:rect l="l" t="t" r="r" b="b"/>
            <a:pathLst>
              <a:path w="304800" h="0">
                <a:moveTo>
                  <a:pt x="0" y="0"/>
                </a:moveTo>
                <a:lnTo>
                  <a:pt x="30480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object 4"/>
          <p:cNvSpPr/>
          <p:nvPr/>
        </p:nvSpPr>
        <p:spPr>
          <a:xfrm>
            <a:off x="1211400" y="2620800"/>
            <a:ext cx="360" cy="914400"/>
          </a:xfrm>
          <a:custGeom>
            <a:avLst/>
            <a:gdLst/>
            <a:ahLst/>
            <a:rect l="l" t="t" r="r" b="b"/>
            <a:pathLst>
              <a:path w="0" h="914400">
                <a:moveTo>
                  <a:pt x="0" y="0"/>
                </a:moveTo>
                <a:lnTo>
                  <a:pt x="0" y="91440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object 5"/>
          <p:cNvSpPr/>
          <p:nvPr/>
        </p:nvSpPr>
        <p:spPr>
          <a:xfrm>
            <a:off x="3895560" y="3078000"/>
            <a:ext cx="304920" cy="360"/>
          </a:xfrm>
          <a:custGeom>
            <a:avLst/>
            <a:gdLst/>
            <a:ahLst/>
            <a:rect l="l" t="t" r="r" b="b"/>
            <a:pathLst>
              <a:path w="304800" h="0">
                <a:moveTo>
                  <a:pt x="304800" y="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object 6"/>
          <p:cNvSpPr/>
          <p:nvPr/>
        </p:nvSpPr>
        <p:spPr>
          <a:xfrm>
            <a:off x="3971880" y="2620800"/>
            <a:ext cx="360" cy="914400"/>
          </a:xfrm>
          <a:custGeom>
            <a:avLst/>
            <a:gdLst/>
            <a:ahLst/>
            <a:rect l="l" t="t" r="r" b="b"/>
            <a:pathLst>
              <a:path w="0" h="914400">
                <a:moveTo>
                  <a:pt x="0" y="91440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object 7"/>
          <p:cNvSpPr/>
          <p:nvPr/>
        </p:nvSpPr>
        <p:spPr>
          <a:xfrm>
            <a:off x="2135160" y="1211400"/>
            <a:ext cx="914400" cy="360"/>
          </a:xfrm>
          <a:custGeom>
            <a:avLst/>
            <a:gdLst/>
            <a:ahLst/>
            <a:rect l="l" t="t" r="r" b="b"/>
            <a:pathLst>
              <a:path w="914400" h="0">
                <a:moveTo>
                  <a:pt x="0" y="0"/>
                </a:moveTo>
                <a:lnTo>
                  <a:pt x="91440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bject 8"/>
          <p:cNvSpPr/>
          <p:nvPr/>
        </p:nvSpPr>
        <p:spPr>
          <a:xfrm>
            <a:off x="2592360" y="982800"/>
            <a:ext cx="360" cy="304560"/>
          </a:xfrm>
          <a:custGeom>
            <a:avLst/>
            <a:gdLst/>
            <a:ahLst/>
            <a:rect l="l" t="t" r="r" b="b"/>
            <a:pathLst>
              <a:path w="0" h="304800">
                <a:moveTo>
                  <a:pt x="0" y="0"/>
                </a:moveTo>
                <a:lnTo>
                  <a:pt x="0" y="30480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bject 9"/>
          <p:cNvSpPr/>
          <p:nvPr/>
        </p:nvSpPr>
        <p:spPr>
          <a:xfrm>
            <a:off x="2135160" y="4944960"/>
            <a:ext cx="914400" cy="360"/>
          </a:xfrm>
          <a:custGeom>
            <a:avLst/>
            <a:gdLst/>
            <a:ahLst/>
            <a:rect l="l" t="t" r="r" b="b"/>
            <a:pathLst>
              <a:path w="914400" h="0">
                <a:moveTo>
                  <a:pt x="914400" y="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bject 10"/>
          <p:cNvSpPr/>
          <p:nvPr/>
        </p:nvSpPr>
        <p:spPr>
          <a:xfrm>
            <a:off x="2592360" y="4869000"/>
            <a:ext cx="360" cy="304560"/>
          </a:xfrm>
          <a:custGeom>
            <a:avLst/>
            <a:gdLst/>
            <a:ahLst/>
            <a:rect l="l" t="t" r="r" b="b"/>
            <a:pathLst>
              <a:path w="0" h="304800">
                <a:moveTo>
                  <a:pt x="0" y="30480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ja-JP" sz="1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12T19:23:14Z</dcterms:created>
  <dc:creator/>
  <dc:description/>
  <dc:language>en-US</dc:language>
  <cp:lastModifiedBy/>
  <dcterms:modified xsi:type="dcterms:W3CDTF">2020-06-12T19:23:22Z</dcterms:modified>
  <cp:revision>1</cp:revision>
  <dc:subject/>
  <dc:title/>
</cp:coreProperties>
</file>