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47A3-BE31-4994-A9DB-394CF543D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89DD-DAE4-4711-8DEA-D9BF29F63E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3633840" y="3938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92160" y="95400"/>
            <a:ext cx="3429000" cy="51588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1920" y="51656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3584520" y="54309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3167280" cy="4140360"/>
            <a:chOff x="1008000" y="1008000"/>
            <a:chExt cx="3167280" cy="414036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4328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51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251928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851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5128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85128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482436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74328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5128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74328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74328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5128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51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5128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482436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89556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397188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2135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2592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213516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259236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3:36Z</dcterms:created>
  <dc:creator/>
  <dc:description/>
  <dc:language>en-US</dc:language>
  <cp:lastModifiedBy/>
  <dcterms:modified xsi:type="dcterms:W3CDTF">2020-06-12T19:23:48Z</dcterms:modified>
  <cp:revision>1</cp:revision>
  <dc:subject/>
  <dc:title/>
</cp:coreProperties>
</file>