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003838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155600" y="685440"/>
            <a:ext cx="4546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75F0-CD09-4C9E-BF29-EE28C58FB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A9D7-3EB7-4363-9532-D0D6BECE52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5468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37848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566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9000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637848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118566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900000" y="541440"/>
            <a:ext cx="1620288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6448040" y="387360"/>
            <a:ext cx="105084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1"/>
          <p:cNvSpPr/>
          <p:nvPr/>
        </p:nvSpPr>
        <p:spPr>
          <a:xfrm>
            <a:off x="9072720" y="1229688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2"/>
          <p:cNvSpPr/>
          <p:nvPr/>
        </p:nvSpPr>
        <p:spPr>
          <a:xfrm>
            <a:off x="906300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7048440" y="233280"/>
            <a:ext cx="404820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4373640" y="1258560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50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10464840" y="1259064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50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4240" y="982800"/>
            <a:ext cx="16033680" cy="11607840"/>
            <a:chOff x="984240" y="982800"/>
            <a:chExt cx="16033680" cy="11607840"/>
          </a:xfrm>
        </p:grpSpPr>
        <p:grpSp>
          <p:nvGrpSpPr>
            <p:cNvPr id="7" name="object 2"/>
            <p:cNvGrpSpPr/>
            <p:nvPr/>
          </p:nvGrpSpPr>
          <p:grpSpPr>
            <a:xfrm>
              <a:off x="1007280" y="12131640"/>
              <a:ext cx="435960" cy="435960"/>
              <a:chOff x="1007280" y="12131640"/>
              <a:chExt cx="43596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728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7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7280" y="1005840"/>
              <a:ext cx="435960" cy="435960"/>
              <a:chOff x="1007280" y="1005840"/>
              <a:chExt cx="43596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728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7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6558920" y="1005840"/>
              <a:ext cx="435960" cy="435960"/>
              <a:chOff x="16558920" y="1005840"/>
              <a:chExt cx="43596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66676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655892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6558920" y="12131640"/>
              <a:ext cx="435960" cy="435960"/>
              <a:chOff x="16558920" y="12131640"/>
              <a:chExt cx="43596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66676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655892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4240" y="6329520"/>
              <a:ext cx="304560" cy="914400"/>
              <a:chOff x="984240" y="632952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424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284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6713360" y="6329520"/>
              <a:ext cx="304560" cy="914400"/>
              <a:chOff x="16713360" y="632952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671336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678932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8543880" y="982800"/>
              <a:ext cx="914040" cy="304560"/>
              <a:chOff x="8543880" y="982800"/>
              <a:chExt cx="91404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8543880" y="121140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9000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8543880" y="12286080"/>
              <a:ext cx="914040" cy="304560"/>
              <a:chOff x="8543880" y="12286080"/>
              <a:chExt cx="91404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8543880" y="1236204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900072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38:51Z</dcterms:created>
  <dc:creator/>
  <dc:description/>
  <dc:language>en-US</dc:language>
  <cp:lastModifiedBy/>
  <dcterms:modified xsi:type="dcterms:W3CDTF">2024-08-15T19:24:15Z</dcterms:modified>
  <cp:revision>1</cp:revision>
  <dc:subject/>
  <dc:title/>
</cp:coreProperties>
</file>