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8C71-7115-4C4A-B4C8-2F173E823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A720-3DA5-4A13-B062-67ED70C0D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1201896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4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5"/>
          <p:cNvSpPr/>
          <p:nvPr/>
        </p:nvSpPr>
        <p:spPr>
          <a:xfrm>
            <a:off x="68626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86200" y="216000"/>
            <a:ext cx="4029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577960" y="170085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8669160" y="17111520"/>
            <a:ext cx="14418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1:30Z</dcterms:created>
  <dc:creator/>
  <dc:description/>
  <dc:language>en-US</dc:language>
  <cp:lastModifiedBy/>
  <dcterms:modified xsi:type="dcterms:W3CDTF">2024-08-15T19:34:22Z</dcterms:modified>
  <cp:revision>1</cp:revision>
  <dc:subject/>
  <dc:title/>
</cp:coreProperties>
</file>