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003838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155600" y="685440"/>
            <a:ext cx="4546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DA15-838D-4B91-9FDF-2103BEEB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5E4-C0ED-4AE1-A8C6-E7A7254F1A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5468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37848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56600" y="317556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9000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637848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11856600" y="7287120"/>
            <a:ext cx="521712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162028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900000" y="541440"/>
            <a:ext cx="1620288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202320" y="728712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1440"/>
            <a:ext cx="1620288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202320" y="3175560"/>
            <a:ext cx="79066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00000" y="7287120"/>
            <a:ext cx="162028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644984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3"/>
          <p:cNvSpPr/>
          <p:nvPr/>
        </p:nvSpPr>
        <p:spPr>
          <a:xfrm>
            <a:off x="9072720" y="123318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9072720" y="105732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6972480" y="233280"/>
            <a:ext cx="40464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4373640" y="12577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10464840" y="1259064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500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4240" y="982800"/>
            <a:ext cx="16033680" cy="11607840"/>
            <a:chOff x="984240" y="982800"/>
            <a:chExt cx="16033680" cy="1160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7280" y="12131640"/>
              <a:ext cx="435960" cy="435960"/>
              <a:chOff x="1007280" y="12131640"/>
              <a:chExt cx="435960" cy="43596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728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7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6558920" y="1005840"/>
              <a:ext cx="435960" cy="435960"/>
              <a:chOff x="16558920" y="1005840"/>
              <a:chExt cx="435960" cy="43596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66676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655892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6558920" y="12131640"/>
              <a:ext cx="435960" cy="435960"/>
              <a:chOff x="16558920" y="12131640"/>
              <a:chExt cx="435960" cy="43596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66676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655892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4240" y="6329520"/>
              <a:ext cx="304560" cy="914400"/>
              <a:chOff x="984240" y="632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424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284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6713360" y="6329520"/>
              <a:ext cx="304560" cy="914400"/>
              <a:chOff x="16713360" y="632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671336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678932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8543880" y="982800"/>
              <a:ext cx="914040" cy="304560"/>
              <a:chOff x="8543880" y="982800"/>
              <a:chExt cx="91404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8543880" y="121140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9000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8543880" y="12286080"/>
              <a:ext cx="914040" cy="304560"/>
              <a:chOff x="8543880" y="12286080"/>
              <a:chExt cx="91404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8543880" y="12362040"/>
                <a:ext cx="91404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900072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33:57Z</dcterms:created>
  <dc:creator/>
  <dc:description/>
  <dc:language>en-US</dc:language>
  <cp:lastModifiedBy/>
  <dcterms:modified xsi:type="dcterms:W3CDTF">2024-08-15T19:19:27Z</dcterms:modified>
  <cp:revision>1</cp:revision>
  <dc:subject/>
  <dc:title/>
</cp:coreProperties>
</file>