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5F1-188A-4D0C-B758-C2420352F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65FD-F942-4DC0-B56F-BCC67D3462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2040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741920" y="252360"/>
            <a:ext cx="408924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47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7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52Z</dcterms:created>
  <dc:creator/>
  <dc:description/>
  <dc:language>en-US</dc:language>
  <cp:lastModifiedBy/>
  <dcterms:modified xsi:type="dcterms:W3CDTF">2024-08-15T19:01:59Z</dcterms:modified>
  <cp:revision>1</cp:revision>
  <dc:subject/>
  <dc:title/>
</cp:coreProperties>
</file>