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2109960" y="685440"/>
            <a:ext cx="26380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E6C2-1970-4450-8BF4-66B48573A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5F76-5846-4F1F-A7A0-7BA94F94D7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2109960" y="685800"/>
            <a:ext cx="263808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トンボ説明ol"/>
          <p:cNvPicPr/>
          <p:nvPr/>
        </p:nvPicPr>
        <p:blipFill>
          <a:blip r:embed="rId2"/>
          <a:stretch/>
        </p:blipFill>
        <p:spPr>
          <a:xfrm>
            <a:off x="8889840" y="385920"/>
            <a:ext cx="1051200" cy="11617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65"/>
          <p:cNvSpPr/>
          <p:nvPr/>
        </p:nvSpPr>
        <p:spPr>
          <a:xfrm>
            <a:off x="5278320" y="122745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66"/>
          <p:cNvSpPr/>
          <p:nvPr/>
        </p:nvSpPr>
        <p:spPr>
          <a:xfrm>
            <a:off x="529272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3" descr=""/>
          <p:cNvPicPr/>
          <p:nvPr/>
        </p:nvPicPr>
        <p:blipFill>
          <a:blip r:embed="rId3"/>
          <a:stretch/>
        </p:blipFill>
        <p:spPr>
          <a:xfrm>
            <a:off x="3184560" y="233280"/>
            <a:ext cx="406548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82440" y="1257948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5"/>
          <p:cNvSpPr/>
          <p:nvPr/>
        </p:nvSpPr>
        <p:spPr>
          <a:xfrm>
            <a:off x="8869320" y="12806280"/>
            <a:ext cx="144144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6"/>
          <p:cNvGrpSpPr/>
          <p:nvPr/>
        </p:nvGrpSpPr>
        <p:grpSpPr>
          <a:xfrm>
            <a:off x="982800" y="982800"/>
            <a:ext cx="8475480" cy="11607840"/>
            <a:chOff x="982800" y="982800"/>
            <a:chExt cx="8475480" cy="11607840"/>
          </a:xfrm>
        </p:grpSpPr>
        <p:grpSp>
          <p:nvGrpSpPr>
            <p:cNvPr id="7" name="object 2"/>
            <p:cNvGrpSpPr/>
            <p:nvPr/>
          </p:nvGrpSpPr>
          <p:grpSpPr>
            <a:xfrm>
              <a:off x="1005840" y="12131640"/>
              <a:ext cx="435960" cy="435960"/>
              <a:chOff x="1005840" y="12131640"/>
              <a:chExt cx="435960" cy="43596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584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584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8999280" y="1005840"/>
              <a:ext cx="435960" cy="435960"/>
              <a:chOff x="8999280" y="1005840"/>
              <a:chExt cx="435960" cy="43596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910800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899928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8999280" y="12131640"/>
              <a:ext cx="435960" cy="435960"/>
              <a:chOff x="8999280" y="12131640"/>
              <a:chExt cx="435960" cy="43596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910800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899928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2800" y="6329520"/>
              <a:ext cx="304560" cy="914400"/>
              <a:chOff x="982800" y="6329520"/>
              <a:chExt cx="304560" cy="91440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280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140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9153720" y="6329520"/>
              <a:ext cx="304560" cy="914400"/>
              <a:chOff x="9153720" y="6329520"/>
              <a:chExt cx="304560" cy="91440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915372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922968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4763160" y="982800"/>
              <a:ext cx="914400" cy="304560"/>
              <a:chOff x="4763160" y="982800"/>
              <a:chExt cx="91440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4763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522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4763160" y="12286080"/>
              <a:ext cx="914400" cy="304560"/>
              <a:chOff x="4763160" y="12286080"/>
              <a:chExt cx="91440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4763160" y="1236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5220360" y="1228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43:50Z</dcterms:created>
  <dc:creator/>
  <dc:description/>
  <dc:language>en-US</dc:language>
  <cp:lastModifiedBy/>
  <dcterms:modified xsi:type="dcterms:W3CDTF">2024-08-15T19:12:15Z</dcterms:modified>
  <cp:revision>1</cp:revision>
  <dc:subject/>
  <dc:title/>
</cp:coreProperties>
</file>