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09960" y="685440"/>
            <a:ext cx="2638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E1F5-3873-4630-A093-EDD31A92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0A03-BA13-4D32-9FA9-911435B204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09960" y="685800"/>
            <a:ext cx="26380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88851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65"/>
          <p:cNvSpPr/>
          <p:nvPr/>
        </p:nvSpPr>
        <p:spPr>
          <a:xfrm>
            <a:off x="52783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6"/>
          <p:cNvSpPr/>
          <p:nvPr/>
        </p:nvSpPr>
        <p:spPr>
          <a:xfrm>
            <a:off x="5292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3151080" y="233280"/>
            <a:ext cx="41338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82440" y="125794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8869320" y="128062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3:20Z</dcterms:created>
  <dc:creator/>
  <dc:description/>
  <dc:language>en-US</dc:language>
  <cp:lastModifiedBy/>
  <dcterms:modified xsi:type="dcterms:W3CDTF">2024-08-15T19:08:16Z</dcterms:modified>
  <cp:revision>1</cp:revision>
  <dc:subject/>
  <dc:title/>
</cp:coreProperties>
</file>