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00240" y="685440"/>
            <a:ext cx="44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B4A5-465C-4431-866B-0D40EF4E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F953-4C4B-46F9-8EF3-DB626A7710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85800"/>
            <a:ext cx="445752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20189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6858000" y="9171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6848640" y="1028880"/>
            <a:ext cx="247320" cy="24732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22840" y="179280"/>
            <a:ext cx="4127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292480" y="94536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605800" y="96314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2:13Z</dcterms:created>
  <dc:creator/>
  <dc:description/>
  <dc:language>en-US</dc:language>
  <cp:lastModifiedBy/>
  <dcterms:modified xsi:type="dcterms:W3CDTF">2024-08-15T18:57:07Z</dcterms:modified>
  <cp:revision>1</cp:revision>
  <dc:subject/>
  <dc:title/>
</cp:coreProperties>
</file>