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DEF-2170-4170-8C61-39365687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4D6B-0AE3-43DD-8C4F-071F921F3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888696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3171960" y="287280"/>
            <a:ext cx="4090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721368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839080" y="74296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8423280" cy="6191280"/>
            <a:chOff x="1008000" y="1008000"/>
            <a:chExt cx="842328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9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05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7772400" cy="55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05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10584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10584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6873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384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9640" y="6873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10584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99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9964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05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058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058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999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05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0584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873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8738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99640" y="6873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9151920" y="4103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922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762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5219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762440" y="6996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521964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6:43Z</dcterms:created>
  <dc:creator/>
  <dc:description/>
  <dc:language>en-US</dc:language>
  <cp:lastModifiedBy/>
  <dcterms:modified xsi:type="dcterms:W3CDTF">2020-06-12T18:46:54Z</dcterms:modified>
  <cp:revision>1</cp:revision>
  <dc:subject/>
  <dc:title/>
</cp:coreProperties>
</file>