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439400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47760" y="685440"/>
            <a:ext cx="4362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5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FA54-0D32-4300-9C4C-96A06D202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C7A1-AE59-451F-A025-395FEED3EF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47760" y="685800"/>
            <a:ext cx="436248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5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888696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0"/>
          <p:cNvSpPr/>
          <p:nvPr/>
        </p:nvSpPr>
        <p:spPr>
          <a:xfrm>
            <a:off x="5262480" y="6923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1"/>
          <p:cNvSpPr/>
          <p:nvPr/>
        </p:nvSpPr>
        <p:spPr>
          <a:xfrm>
            <a:off x="52768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3193920" y="216000"/>
            <a:ext cx="404676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721044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839080" y="74296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8423280" cy="6191280"/>
            <a:chOff x="1008000" y="1008000"/>
            <a:chExt cx="842328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3440" y="100800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99640" y="100800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05840" y="100800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3440" y="1333440"/>
              <a:ext cx="7772400" cy="55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05840" y="1333440"/>
              <a:ext cx="3254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105840" y="1440000"/>
              <a:ext cx="32544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105840" y="6767640"/>
              <a:ext cx="325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3440" y="6873840"/>
              <a:ext cx="1065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3840"/>
              <a:ext cx="7559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999640" y="6873840"/>
              <a:ext cx="106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105840" y="6873840"/>
              <a:ext cx="325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34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34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34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99640" y="100800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999640" y="6873840"/>
              <a:ext cx="0" cy="32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0584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105840" y="1440000"/>
              <a:ext cx="0" cy="532764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05840" y="676764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34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34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999640" y="13334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105840" y="144000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05840" y="6767640"/>
              <a:ext cx="325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87384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873840"/>
              <a:ext cx="7559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999640" y="687384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9151920" y="410364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922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762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5219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762440" y="6996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521964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6:11Z</dcterms:created>
  <dc:creator/>
  <dc:description/>
  <dc:language>en-US</dc:language>
  <cp:lastModifiedBy/>
  <dcterms:modified xsi:type="dcterms:W3CDTF">2020-06-12T18:46:23Z</dcterms:modified>
  <cp:revision>1</cp:revision>
  <dc:subject/>
  <dc:title/>
</cp:coreProperties>
</file>