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081160" y="685440"/>
            <a:ext cx="269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F737-9AF5-4BE7-B4FC-8130049A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47C5-8D0F-4B86-83AD-E7653F79BD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081160" y="685800"/>
            <a:ext cx="26956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6400" y="38736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4157640" y="9140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41720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058840" y="252360"/>
            <a:ext cx="408492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1280" y="945360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692760" y="973296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8423280"/>
            <a:chOff x="1008000" y="1008000"/>
            <a:chExt cx="6191280" cy="8423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3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5540400" cy="77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3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3840" y="1440000"/>
              <a:ext cx="325440" cy="75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3840" y="8999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9105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9105840"/>
              <a:ext cx="5327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9105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3840" y="9105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767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67640" y="9105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73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3840" y="1440000"/>
              <a:ext cx="0" cy="7559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73840" y="8999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767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873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73840" y="8999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9105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9105840"/>
              <a:ext cx="5327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7640" y="9105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5219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6919920" y="5219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6996240" y="4762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3646440" y="922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103640" y="9151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7:51Z</dcterms:created>
  <dc:creator/>
  <dc:description/>
  <dc:language>en-US</dc:language>
  <cp:lastModifiedBy/>
  <dcterms:modified xsi:type="dcterms:W3CDTF">2020-06-12T18:48:02Z</dcterms:modified>
  <cp:revision>1</cp:revision>
  <dc:subject/>
  <dc:title/>
</cp:coreProperties>
</file>