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733-99D7-4E74-BE92-717CA2F9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B94-9FC4-4F6C-94C0-9B039A0457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7840" y="38880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176560" y="252360"/>
            <a:ext cx="384948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1280" y="94410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692760" y="973296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8423280"/>
            <a:chOff x="1008000" y="1008000"/>
            <a:chExt cx="6191280" cy="8423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3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5540400" cy="77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3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384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384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9105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910584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9105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384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67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73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38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738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767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873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7384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9105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91058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7640" y="9105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5219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6919920" y="5219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699624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3646440" y="922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103640" y="9151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7:15Z</dcterms:created>
  <dc:creator/>
  <dc:description/>
  <dc:language>en-US</dc:language>
  <cp:lastModifiedBy/>
  <dcterms:modified xsi:type="dcterms:W3CDTF">2020-06-12T18:47:25Z</dcterms:modified>
  <cp:revision>1</cp:revision>
  <dc:subject/>
  <dc:title/>
</cp:coreProperties>
</file>