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D94-102C-488E-B51A-4B92FEDE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80B3-4350-475F-877E-841341F923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0840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36440" y="131760"/>
            <a:ext cx="40705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262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29200" y="7439040"/>
            <a:ext cx="1436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03Z</dcterms:created>
  <dc:creator/>
  <dc:description/>
  <dc:language>en-US</dc:language>
  <cp:lastModifiedBy/>
  <dcterms:modified xsi:type="dcterms:W3CDTF">2020-06-12T18:50:12Z</dcterms:modified>
  <cp:revision>1</cp:revision>
  <dc:subject/>
  <dc:title/>
</cp:coreProperties>
</file>