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5543550" cy="6659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2001960" y="685440"/>
            <a:ext cx="28540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1CDF-A330-4104-9F2D-AA13F9516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B5F4-CB90-4E26-AF53-FF9C1EEF82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001960" y="685800"/>
            <a:ext cx="285408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77200" y="357588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283392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96416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65112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7720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196416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365112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77200" y="1558440"/>
            <a:ext cx="49892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49892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77200" y="265680"/>
            <a:ext cx="498924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3392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3994200" y="392040"/>
            <a:ext cx="1039680" cy="114948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2803680" y="536256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281772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108000" y="90360"/>
            <a:ext cx="3816360" cy="57960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60480" y="566892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54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5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3889440" y="5945040"/>
            <a:ext cx="153648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54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85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3527640" cy="4643640"/>
            <a:chOff x="1008000" y="1008000"/>
            <a:chExt cx="3527640" cy="464364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2663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10364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21164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2879640" cy="39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21164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4000" cy="37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211640" y="1440000"/>
              <a:ext cx="324000" cy="37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521964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11640" y="521964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532764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2000" y="532764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5327640"/>
              <a:ext cx="2663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103640" y="532764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4211640" y="532764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2000" y="1008000"/>
              <a:ext cx="0" cy="464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532764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10364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03640" y="532764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11640" y="1008000"/>
              <a:ext cx="0" cy="464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08000" y="1332000"/>
              <a:ext cx="3527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21164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08000" y="5219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211640" y="5219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008000" y="5327640"/>
              <a:ext cx="3527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object 3"/>
          <p:cNvSpPr/>
          <p:nvPr/>
        </p:nvSpPr>
        <p:spPr>
          <a:xfrm>
            <a:off x="982800" y="333072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bject 4"/>
          <p:cNvSpPr/>
          <p:nvPr/>
        </p:nvSpPr>
        <p:spPr>
          <a:xfrm>
            <a:off x="1211400" y="287352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5"/>
          <p:cNvSpPr/>
          <p:nvPr/>
        </p:nvSpPr>
        <p:spPr>
          <a:xfrm>
            <a:off x="4255920" y="333072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6"/>
          <p:cNvSpPr/>
          <p:nvPr/>
        </p:nvSpPr>
        <p:spPr>
          <a:xfrm>
            <a:off x="4332240" y="287352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399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7"/>
          <p:cNvSpPr/>
          <p:nvPr/>
        </p:nvSpPr>
        <p:spPr>
          <a:xfrm>
            <a:off x="231444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8"/>
          <p:cNvSpPr/>
          <p:nvPr/>
        </p:nvSpPr>
        <p:spPr>
          <a:xfrm>
            <a:off x="277164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9"/>
          <p:cNvSpPr/>
          <p:nvPr/>
        </p:nvSpPr>
        <p:spPr>
          <a:xfrm>
            <a:off x="2314440" y="544824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10"/>
          <p:cNvSpPr/>
          <p:nvPr/>
        </p:nvSpPr>
        <p:spPr>
          <a:xfrm>
            <a:off x="2771640" y="537228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799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1:41Z</dcterms:created>
  <dc:creator/>
  <dc:description/>
  <dc:language>en-US</dc:language>
  <cp:lastModifiedBy/>
  <dcterms:modified xsi:type="dcterms:W3CDTF">2020-06-12T18:51:51Z</dcterms:modified>
  <cp:revision>1</cp:revision>
  <dc:subject/>
  <dc:title/>
</cp:coreProperties>
</file>