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6659563" cy="5543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370160" y="685440"/>
            <a:ext cx="4117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en-US" sz="2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6EC9B-ACD0-49A4-B6BB-6EAAF24E22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21F78-9535-489B-86B0-5D34A1722E5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370160" y="685800"/>
            <a:ext cx="411768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33000" y="221040"/>
            <a:ext cx="5993640" cy="92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33000" y="1297080"/>
            <a:ext cx="599364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33000" y="2976840"/>
            <a:ext cx="599364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33000" y="221040"/>
            <a:ext cx="5993640" cy="92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33000" y="1297080"/>
            <a:ext cx="292464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404160" y="1297080"/>
            <a:ext cx="292464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33000" y="2976840"/>
            <a:ext cx="292464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3404160" y="2976840"/>
            <a:ext cx="292464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33000" y="221040"/>
            <a:ext cx="5993640" cy="92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33000" y="1297080"/>
            <a:ext cx="192960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2359440" y="1297080"/>
            <a:ext cx="192960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385880" y="1297080"/>
            <a:ext cx="192960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33000" y="2976840"/>
            <a:ext cx="192960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2359440" y="2976840"/>
            <a:ext cx="192960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4385880" y="2976840"/>
            <a:ext cx="192960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33000" y="221040"/>
            <a:ext cx="5993640" cy="92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33000" y="1297080"/>
            <a:ext cx="5993640" cy="321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33000" y="221040"/>
            <a:ext cx="5993640" cy="92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33000" y="1297080"/>
            <a:ext cx="5993640" cy="321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33000" y="221040"/>
            <a:ext cx="5993640" cy="92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33000" y="1297080"/>
            <a:ext cx="2924640" cy="321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404160" y="1297080"/>
            <a:ext cx="2924640" cy="321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33000" y="221040"/>
            <a:ext cx="5993640" cy="92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33000" y="221040"/>
            <a:ext cx="599364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33000" y="221040"/>
            <a:ext cx="5993640" cy="92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33000" y="1297080"/>
            <a:ext cx="292464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404160" y="1297080"/>
            <a:ext cx="2924640" cy="321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33000" y="2976840"/>
            <a:ext cx="292464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33000" y="221040"/>
            <a:ext cx="5993640" cy="92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33000" y="1297080"/>
            <a:ext cx="2924640" cy="321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404160" y="1297080"/>
            <a:ext cx="292464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404160" y="2976840"/>
            <a:ext cx="292464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33000" y="221040"/>
            <a:ext cx="5993640" cy="92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33000" y="1297080"/>
            <a:ext cx="292464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404160" y="1297080"/>
            <a:ext cx="292464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33000" y="2976840"/>
            <a:ext cx="599364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56" descr="トンボ説明ol"/>
          <p:cNvPicPr/>
          <p:nvPr/>
        </p:nvPicPr>
        <p:blipFill>
          <a:blip r:embed="rId2"/>
          <a:stretch/>
        </p:blipFill>
        <p:spPr>
          <a:xfrm>
            <a:off x="5111640" y="396720"/>
            <a:ext cx="1040040" cy="1150920"/>
          </a:xfrm>
          <a:prstGeom prst="rect">
            <a:avLst/>
          </a:prstGeom>
          <a:ln w="0">
            <a:noFill/>
          </a:ln>
        </p:spPr>
      </p:pic>
      <p:sp>
        <p:nvSpPr>
          <p:cNvPr id="1" name="AutoShape 52"/>
          <p:cNvSpPr/>
          <p:nvPr/>
        </p:nvSpPr>
        <p:spPr>
          <a:xfrm>
            <a:off x="3375000" y="42433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AutoShape 53"/>
          <p:cNvSpPr/>
          <p:nvPr/>
        </p:nvSpPr>
        <p:spPr>
          <a:xfrm>
            <a:off x="3389400" y="10080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55"/>
          <p:cNvSpPr/>
          <p:nvPr/>
        </p:nvSpPr>
        <p:spPr>
          <a:xfrm>
            <a:off x="90360" y="4549680"/>
            <a:ext cx="3356280" cy="973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テンプレート使用時の注意点　～必ずお読みください～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①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用紙サイズの変更やトンボの移動、変形などは絶対にしないようお願いします。</a:t>
            </a: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②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「</a:t>
            </a:r>
            <a:r>
              <a:rPr b="0" lang="ja-JP" sz="600" spc="-1" strike="noStrike">
                <a:solidFill>
                  <a:srgbClr val="ff0000"/>
                </a:solidFill>
                <a:latin typeface="ＭＳ Ｐゴシック"/>
              </a:rPr>
              <a:t>ヌリ足し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」まで色や写真を配置して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③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透過性や半透明、パターンなどは変換が正常に出来ない場合がござい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入稿される際は、必ず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形式で保存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したデータでお願いいたし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形式で保存される前に必ず添付の「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owerPoint-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入稿データについて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ｐｄｆ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」をお読み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⑥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書き出し方法については下記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弊社ホームページをご参照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ttp://www.vanfu.co.jp/guide/technical/microsoft-office/#pd00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⑦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を作成後は、必ずこのドキュメントと同じサイズ（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185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ｘ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154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）になっているかご確認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4" descr=""/>
          <p:cNvPicPr/>
          <p:nvPr/>
        </p:nvPicPr>
        <p:blipFill>
          <a:blip r:embed="rId3"/>
          <a:stretch/>
        </p:blipFill>
        <p:spPr>
          <a:xfrm>
            <a:off x="235080" y="181080"/>
            <a:ext cx="3571920" cy="547560"/>
          </a:xfrm>
          <a:prstGeom prst="rect">
            <a:avLst/>
          </a:prstGeom>
          <a:ln w="0">
            <a:noFill/>
          </a:ln>
        </p:spPr>
      </p:pic>
      <p:sp>
        <p:nvSpPr>
          <p:cNvPr id="5" name="Text Box 40"/>
          <p:cNvSpPr/>
          <p:nvPr/>
        </p:nvSpPr>
        <p:spPr>
          <a:xfrm>
            <a:off x="5041800" y="4802040"/>
            <a:ext cx="1490760" cy="632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このドキュメントのサイズは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幅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185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×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高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154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になります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object 2"/>
          <p:cNvGrpSpPr/>
          <p:nvPr/>
        </p:nvGrpSpPr>
        <p:grpSpPr>
          <a:xfrm>
            <a:off x="1008000" y="1008000"/>
            <a:ext cx="4643640" cy="3527640"/>
            <a:chOff x="1008000" y="1008000"/>
            <a:chExt cx="4643640" cy="3527640"/>
          </a:xfrm>
        </p:grpSpPr>
        <p:sp>
          <p:nvSpPr>
            <p:cNvPr id="7" name=""/>
            <p:cNvSpPr/>
            <p:nvPr/>
          </p:nvSpPr>
          <p:spPr>
            <a:xfrm>
              <a:off x="1008000" y="1008000"/>
              <a:ext cx="324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332000" y="1008000"/>
              <a:ext cx="108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440000" y="1008000"/>
              <a:ext cx="377964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5219640" y="1008000"/>
              <a:ext cx="108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327640" y="1008000"/>
              <a:ext cx="324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008000" y="1332000"/>
              <a:ext cx="324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332000" y="1332000"/>
              <a:ext cx="3995640" cy="28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327640" y="1332000"/>
              <a:ext cx="324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008000" y="1440000"/>
              <a:ext cx="324000" cy="26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327640" y="1440000"/>
              <a:ext cx="324000" cy="26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008000" y="4103640"/>
              <a:ext cx="324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327640" y="4103640"/>
              <a:ext cx="324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008000" y="4211640"/>
              <a:ext cx="324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332000" y="4211640"/>
              <a:ext cx="108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440000" y="4211640"/>
              <a:ext cx="377964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5219640" y="4211640"/>
              <a:ext cx="108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327640" y="4211640"/>
              <a:ext cx="324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1332000" y="1008000"/>
              <a:ext cx="0" cy="35276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1440000" y="1008000"/>
              <a:ext cx="0" cy="324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000" y="4211640"/>
              <a:ext cx="0" cy="324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5219640" y="1008000"/>
              <a:ext cx="0" cy="324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219640" y="4211640"/>
              <a:ext cx="0" cy="324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5327640" y="1008000"/>
              <a:ext cx="0" cy="35276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1008000" y="1332000"/>
              <a:ext cx="46436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1008000" y="1440000"/>
              <a:ext cx="324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327640" y="1440000"/>
              <a:ext cx="324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008000" y="4103640"/>
              <a:ext cx="324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327640" y="4103640"/>
              <a:ext cx="324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1008000" y="4211640"/>
              <a:ext cx="46436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" name="object 3"/>
          <p:cNvSpPr/>
          <p:nvPr/>
        </p:nvSpPr>
        <p:spPr>
          <a:xfrm>
            <a:off x="3330720" y="982800"/>
            <a:ext cx="360" cy="304560"/>
          </a:xfrm>
          <a:custGeom>
            <a:avLst/>
            <a:gdLst/>
            <a:ahLst/>
            <a:rect l="l" t="t" r="r" b="b"/>
            <a:pathLst>
              <a:path w="0" h="304800">
                <a:moveTo>
                  <a:pt x="0" y="0"/>
                </a:moveTo>
                <a:lnTo>
                  <a:pt x="0" y="30480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object 4"/>
          <p:cNvSpPr/>
          <p:nvPr/>
        </p:nvSpPr>
        <p:spPr>
          <a:xfrm>
            <a:off x="2873520" y="1211400"/>
            <a:ext cx="914400" cy="360"/>
          </a:xfrm>
          <a:custGeom>
            <a:avLst/>
            <a:gdLst/>
            <a:ahLst/>
            <a:rect l="l" t="t" r="r" b="b"/>
            <a:pathLst>
              <a:path w="914400" h="0">
                <a:moveTo>
                  <a:pt x="914400" y="0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object 5"/>
          <p:cNvSpPr/>
          <p:nvPr/>
        </p:nvSpPr>
        <p:spPr>
          <a:xfrm>
            <a:off x="3330720" y="4255920"/>
            <a:ext cx="360" cy="304920"/>
          </a:xfrm>
          <a:custGeom>
            <a:avLst/>
            <a:gdLst/>
            <a:ahLst/>
            <a:rect l="l" t="t" r="r" b="b"/>
            <a:pathLst>
              <a:path w="0" h="304800">
                <a:moveTo>
                  <a:pt x="0" y="304799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object 6"/>
          <p:cNvSpPr/>
          <p:nvPr/>
        </p:nvSpPr>
        <p:spPr>
          <a:xfrm>
            <a:off x="2873520" y="4332240"/>
            <a:ext cx="914400" cy="360"/>
          </a:xfrm>
          <a:custGeom>
            <a:avLst/>
            <a:gdLst/>
            <a:ahLst/>
            <a:rect l="l" t="t" r="r" b="b"/>
            <a:pathLst>
              <a:path w="914400" h="0">
                <a:moveTo>
                  <a:pt x="0" y="0"/>
                </a:moveTo>
                <a:lnTo>
                  <a:pt x="91440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object 7"/>
          <p:cNvSpPr/>
          <p:nvPr/>
        </p:nvSpPr>
        <p:spPr>
          <a:xfrm>
            <a:off x="5448240" y="2314440"/>
            <a:ext cx="360" cy="914400"/>
          </a:xfrm>
          <a:custGeom>
            <a:avLst/>
            <a:gdLst/>
            <a:ahLst/>
            <a:rect l="l" t="t" r="r" b="b"/>
            <a:pathLst>
              <a:path w="0" h="914400">
                <a:moveTo>
                  <a:pt x="0" y="0"/>
                </a:moveTo>
                <a:lnTo>
                  <a:pt x="0" y="91440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object 8"/>
          <p:cNvSpPr/>
          <p:nvPr/>
        </p:nvSpPr>
        <p:spPr>
          <a:xfrm>
            <a:off x="5372280" y="2771640"/>
            <a:ext cx="304560" cy="360"/>
          </a:xfrm>
          <a:custGeom>
            <a:avLst/>
            <a:gdLst/>
            <a:ahLst/>
            <a:rect l="l" t="t" r="r" b="b"/>
            <a:pathLst>
              <a:path w="304800" h="0">
                <a:moveTo>
                  <a:pt x="304800" y="0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object 9"/>
          <p:cNvSpPr/>
          <p:nvPr/>
        </p:nvSpPr>
        <p:spPr>
          <a:xfrm>
            <a:off x="1211400" y="2314440"/>
            <a:ext cx="360" cy="914400"/>
          </a:xfrm>
          <a:custGeom>
            <a:avLst/>
            <a:gdLst/>
            <a:ahLst/>
            <a:rect l="l" t="t" r="r" b="b"/>
            <a:pathLst>
              <a:path w="0" h="914400">
                <a:moveTo>
                  <a:pt x="0" y="914400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object 10"/>
          <p:cNvSpPr/>
          <p:nvPr/>
        </p:nvSpPr>
        <p:spPr>
          <a:xfrm>
            <a:off x="982800" y="2771640"/>
            <a:ext cx="304560" cy="360"/>
          </a:xfrm>
          <a:custGeom>
            <a:avLst/>
            <a:gdLst/>
            <a:ahLst/>
            <a:rect l="l" t="t" r="r" b="b"/>
            <a:pathLst>
              <a:path w="304800" h="0">
                <a:moveTo>
                  <a:pt x="0" y="0"/>
                </a:moveTo>
                <a:lnTo>
                  <a:pt x="30480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6-12T18:50:35Z</dcterms:created>
  <dc:creator/>
  <dc:description/>
  <dc:language>en-US</dc:language>
  <cp:lastModifiedBy/>
  <dcterms:modified xsi:type="dcterms:W3CDTF">2020-06-12T18:50:45Z</dcterms:modified>
  <cp:revision>1</cp:revision>
  <dc:subject/>
  <dc:title/>
</cp:coreProperties>
</file>