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A45C-E63B-4FDC-AF1C-48E8E2134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2AA7-F011-455F-A80D-A266F20D93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3994200" y="38412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8000" y="90360"/>
            <a:ext cx="371160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56642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5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997440" y="5923080"/>
            <a:ext cx="144144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5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3527640" cy="4643640"/>
            <a:chOff x="1008000" y="1008000"/>
            <a:chExt cx="352764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3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211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2879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211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21164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164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266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103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21164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103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03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11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211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21164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3527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255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332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3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314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2771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314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2771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2:05Z</dcterms:created>
  <dc:creator/>
  <dc:description/>
  <dc:language>en-US</dc:language>
  <cp:lastModifiedBy/>
  <dcterms:modified xsi:type="dcterms:W3CDTF">2020-06-12T18:52:14Z</dcterms:modified>
  <cp:revision>1</cp:revision>
  <dc:subject/>
  <dc:title/>
</cp:coreProperties>
</file>