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5292720" y="3985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4"/>
          <p:cNvSpPr/>
          <p:nvPr/>
        </p:nvSpPr>
        <p:spPr>
          <a:xfrm>
            <a:off x="3459240" y="10152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5"/>
          <p:cNvSpPr/>
          <p:nvPr/>
        </p:nvSpPr>
        <p:spPr>
          <a:xfrm>
            <a:off x="3449520" y="9558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69920" y="322200"/>
            <a:ext cx="397188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58880" y="10356840"/>
            <a:ext cx="3341520" cy="98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1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789440" y="105966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9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31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4875120" cy="9375480"/>
            <a:chOff x="982800" y="982800"/>
            <a:chExt cx="4875120" cy="9375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9899280"/>
              <a:ext cx="436320" cy="435960"/>
              <a:chOff x="1005840" y="9899280"/>
              <a:chExt cx="43632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5960"/>
              <a:chOff x="1005840" y="1005840"/>
              <a:chExt cx="43632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5398920" y="1005840"/>
              <a:ext cx="436320" cy="435960"/>
              <a:chOff x="5398920" y="1005840"/>
              <a:chExt cx="43632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5507640" y="100584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5398920" y="100584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5398920" y="9899280"/>
              <a:ext cx="436320" cy="435960"/>
              <a:chOff x="5398920" y="9899280"/>
              <a:chExt cx="43632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5507640" y="9899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5398920" y="1000800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213160"/>
              <a:ext cx="304560" cy="914400"/>
              <a:chOff x="982800" y="521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5553360" y="5213160"/>
              <a:ext cx="304560" cy="914400"/>
              <a:chOff x="5553360" y="521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5553360" y="56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5629320" y="52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2963160" y="982800"/>
              <a:ext cx="915120" cy="304560"/>
              <a:chOff x="2963160" y="982800"/>
              <a:chExt cx="91512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2963160" y="1211400"/>
                <a:ext cx="91512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0" y="0"/>
                    </a:moveTo>
                    <a:lnTo>
                      <a:pt x="9144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34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2963160" y="10053720"/>
              <a:ext cx="915120" cy="304560"/>
              <a:chOff x="2963160" y="10053720"/>
              <a:chExt cx="91512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2963160" y="10129680"/>
                <a:ext cx="91512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914412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3420360" y="100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20:48:32Z</dcterms:created>
  <dc:creator/>
  <dc:description/>
  <dc:language>en-US</dc:language>
  <cp:lastModifiedBy/>
  <dcterms:modified xsi:type="dcterms:W3CDTF">2024-08-28T20:48:38Z</dcterms:modified>
  <cp:revision>1</cp:revision>
  <dc:subject/>
  <dc:title/>
</cp:coreProperties>
</file>