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5646600" y="39852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47"/>
          <p:cNvSpPr/>
          <p:nvPr/>
        </p:nvSpPr>
        <p:spPr>
          <a:xfrm>
            <a:off x="3664080" y="10150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8"/>
          <p:cNvSpPr/>
          <p:nvPr/>
        </p:nvSpPr>
        <p:spPr>
          <a:xfrm>
            <a:off x="3654360" y="9558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611360" y="270000"/>
            <a:ext cx="397836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047600" y="10371240"/>
            <a:ext cx="3303720" cy="94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1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7"/>
          <p:cNvSpPr/>
          <p:nvPr/>
        </p:nvSpPr>
        <p:spPr>
          <a:xfrm>
            <a:off x="4784760" y="1057428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0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31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5235480" cy="9375480"/>
            <a:chOff x="982800" y="982800"/>
            <a:chExt cx="5235480" cy="9375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9899280"/>
              <a:ext cx="436320" cy="435960"/>
              <a:chOff x="1005840" y="9899280"/>
              <a:chExt cx="43632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98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00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5759280" y="1005840"/>
              <a:ext cx="436320" cy="435960"/>
              <a:chOff x="5759280" y="1005840"/>
              <a:chExt cx="43632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5868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5759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5759280" y="9899280"/>
              <a:ext cx="436320" cy="435960"/>
              <a:chOff x="5759280" y="9899280"/>
              <a:chExt cx="43632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5868000" y="98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5759280" y="100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5213160"/>
              <a:ext cx="304560" cy="914400"/>
              <a:chOff x="982800" y="521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56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52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5913720" y="5213160"/>
              <a:ext cx="304560" cy="914400"/>
              <a:chOff x="5913720" y="521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5913720" y="56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5989680" y="52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3143160" y="982800"/>
              <a:ext cx="914400" cy="304560"/>
              <a:chOff x="3143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314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360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3143160" y="10053720"/>
              <a:ext cx="914400" cy="304560"/>
              <a:chOff x="3143160" y="10053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3143160" y="101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3600360" y="100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33:43Z</dcterms:created>
  <dc:creator/>
  <dc:description/>
  <dc:language>en-US</dc:language>
  <cp:lastModifiedBy/>
  <dcterms:modified xsi:type="dcterms:W3CDTF">2024-08-28T20:33:48Z</dcterms:modified>
  <cp:revision>1</cp:revision>
  <dc:subject/>
  <dc:title/>
</cp:coreProperties>
</file>