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5661000" y="3985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7"/>
          <p:cNvSpPr/>
          <p:nvPr/>
        </p:nvSpPr>
        <p:spPr>
          <a:xfrm>
            <a:off x="3664080" y="1014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8"/>
          <p:cNvSpPr/>
          <p:nvPr/>
        </p:nvSpPr>
        <p:spPr>
          <a:xfrm>
            <a:off x="3654360" y="9558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617840" y="270000"/>
            <a:ext cx="3965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047600" y="10356840"/>
            <a:ext cx="335628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784760" y="1057428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0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5235480" cy="9375480"/>
            <a:chOff x="982800" y="982800"/>
            <a:chExt cx="5235480" cy="93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9899280"/>
              <a:ext cx="436320" cy="435960"/>
              <a:chOff x="1005840" y="989928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5759280" y="1005840"/>
              <a:ext cx="436320" cy="435960"/>
              <a:chOff x="5759280" y="100584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5868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5759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5759280" y="9899280"/>
              <a:ext cx="436320" cy="435960"/>
              <a:chOff x="5759280" y="989928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586800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575928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213160"/>
              <a:ext cx="304560" cy="914400"/>
              <a:chOff x="982800" y="521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913720" y="5213160"/>
              <a:ext cx="304560" cy="914400"/>
              <a:chOff x="5913720" y="521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91372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98968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3143160" y="982800"/>
              <a:ext cx="914400" cy="304560"/>
              <a:chOff x="314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314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360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3143160" y="10053720"/>
              <a:ext cx="914400" cy="304560"/>
              <a:chOff x="3143160" y="100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3143160" y="101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3600360" y="100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4:46Z</dcterms:created>
  <dc:creator/>
  <dc:description/>
  <dc:language>en-US</dc:language>
  <cp:lastModifiedBy/>
  <dcterms:modified xsi:type="dcterms:W3CDTF">2024-08-28T20:34:51Z</dcterms:modified>
  <cp:revision>1</cp:revision>
  <dc:subject/>
  <dc:title/>
</cp:coreProperties>
</file>