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4704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103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04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1849320" y="216000"/>
            <a:ext cx="4503960" cy="71892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1287360" y="54500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556240" y="597996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20:49:52Z</dcterms:modified>
  <cp:revision>22</cp:revision>
  <dc:subject/>
  <dc:title>PowerPoint プレゼンテーション</dc:title>
</cp:coreProperties>
</file>