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24413" cy="594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0892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17664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24120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170892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317664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241200" y="236880"/>
            <a:ext cx="43412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"/>
          <p:cNvPicPr/>
          <p:nvPr/>
        </p:nvPicPr>
        <p:blipFill>
          <a:blip r:embed="rId2"/>
          <a:stretch/>
        </p:blipFill>
        <p:spPr>
          <a:xfrm>
            <a:off x="3282840" y="39384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105"/>
          <p:cNvSpPr/>
          <p:nvPr/>
        </p:nvSpPr>
        <p:spPr>
          <a:xfrm>
            <a:off x="2455920" y="4734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106"/>
          <p:cNvSpPr/>
          <p:nvPr/>
        </p:nvSpPr>
        <p:spPr>
          <a:xfrm>
            <a:off x="2444760" y="960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76320" y="76320"/>
            <a:ext cx="309060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54000" y="4976640"/>
            <a:ext cx="3330720" cy="96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3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6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3427560" y="544680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34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6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"/>
          <p:cNvGrpSpPr/>
          <p:nvPr/>
        </p:nvGrpSpPr>
        <p:grpSpPr>
          <a:xfrm>
            <a:off x="982800" y="982800"/>
            <a:ext cx="2859120" cy="3975120"/>
            <a:chOff x="982800" y="982800"/>
            <a:chExt cx="2859120" cy="397512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4498920"/>
              <a:ext cx="436320" cy="436320"/>
              <a:chOff x="1005840" y="4498920"/>
              <a:chExt cx="43632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44989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46076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3989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3382920" y="1005840"/>
              <a:ext cx="436320" cy="436320"/>
              <a:chOff x="3382920" y="1005840"/>
              <a:chExt cx="43632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34916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338292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3382920" y="4498920"/>
              <a:ext cx="436320" cy="436320"/>
              <a:chOff x="3382920" y="4498920"/>
              <a:chExt cx="43632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3491640" y="44989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199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3382920" y="46076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3989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2513160"/>
              <a:ext cx="304560" cy="914400"/>
              <a:chOff x="982800" y="2513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297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251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3537360" y="2513160"/>
              <a:ext cx="304560" cy="914400"/>
              <a:chOff x="3537360" y="2513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3537360" y="297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3613320" y="251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1955160" y="982800"/>
              <a:ext cx="914400" cy="304560"/>
              <a:chOff x="195516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1955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2412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1955160" y="4653360"/>
              <a:ext cx="914400" cy="304560"/>
              <a:chOff x="1955160" y="465336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1955160" y="4729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2412360" y="4653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19:49:43Z</dcterms:created>
  <dc:creator/>
  <dc:description/>
  <dc:language>en-US</dc:language>
  <cp:lastModifiedBy/>
  <dcterms:modified xsi:type="dcterms:W3CDTF">2024-08-28T19:50:00Z</dcterms:modified>
  <cp:revision>1</cp:revision>
  <dc:subject/>
  <dc:title/>
</cp:coreProperties>
</file>